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82C-A436-4DB5-876C-DB0EB01F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6E5-77F4-4BA8-ABA0-4C1AC599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FDA-4B9E-404D-A52E-D89FB70F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1A8-D733-4D67-B21B-5F0B87A2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0753-311C-4145-98AF-448FD5AF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4ED5-BFC9-4B51-AA7F-972C1054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119A-159C-410A-B393-4CC9C93D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B47C-D92A-450A-8841-A370D820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71BA-A01B-42DE-AC9B-7E064121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6134-BEAC-4741-A9BB-52B24C77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73DF-7B77-4E0F-8310-B31C593B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420-F674-49BB-963F-86B620F9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84F5-261F-415B-A00E-9242CC3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C4C3-ABD3-44BA-B07D-BDA83881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C261-1813-4A44-B6BB-612EE6A0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DC6F-82F1-4638-9F51-DC89A616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8B05-A792-4053-9C1C-CFBC3AA4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45D1-4733-4515-80DB-A5DE1558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907-D4BB-49E9-9ABF-AE95BFF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8A5-D013-4964-BFDB-7E82E219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DE22-06A7-4416-83AB-30CE3FD9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D56-BE32-415B-8337-644CD070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597-AD65-4D9D-AC91-C679D725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0B7-4490-4AAD-AE26-150AD024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609-5B26-477A-B23E-E1468328B53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5821-5DD3-4E85-9C49-A1FD5676526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Rise of New Religious Expres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meditation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3671640" cy="3527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00" y="661500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Arial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 Decline in Traditional Relig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5257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has been a significant decline in the numbers of people belonging to traditional faith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ever, this does not mean that people are less religious or spiri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w forms of religion are growing in Austral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3564000" cy="4967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New Religions Develo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608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number of people claiming to be Christian is fall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aiths such as Buddhism, Islam and Hinduism are gr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Yet, there is also growth in faith described as “other” according to the cens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4105440" cy="512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New Religions Develo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11640" y="1981080"/>
            <a:ext cx="4681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ahoma"/>
              </a:rPr>
              <a:t>New religions often develop out of “old” faith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ahoma"/>
              </a:rPr>
              <a:t>New age faiths have developed out of ancient pagan ritual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095720" cy="432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ge old question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4752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eople still have the same questions about life which they have always ha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o am 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y am I he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there a Go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y does evil exi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there life after dea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419280" cy="512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lternative Fait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40360" y="1981080"/>
            <a:ext cx="4752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w, they are seeking answers to these questions in alternative faiths which meet modern day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aith has become much more individual than community ba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924360" cy="51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lternative Fait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32360" y="1981080"/>
            <a:ext cx="3960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eople seek a moral and ethical base in new versions of ancient faiths because they perceive the Western world to have fai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66740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Neo Pagan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16000" y="1981080"/>
            <a:ext cx="42483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Neo Paganism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seeks to connect people with their environ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editative spiritualities are ways for people to find inner peace that they believe are lacking in the predominant relig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60164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Question Ti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4000" y="1981080"/>
            <a:ext cx="324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is membership of  the traditional faiths declining in Austral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61016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1:50:49Z</dcterms:created>
  <dc:creator> Karen Devine</dc:creator>
  <dc:description/>
  <dc:language>en-US</dc:language>
  <cp:lastModifiedBy> </cp:lastModifiedBy>
  <dcterms:modified xsi:type="dcterms:W3CDTF">2008-02-25T00:03:01Z</dcterms:modified>
  <cp:revision>3</cp:revision>
  <dc:subject/>
  <dc:title>The Rise of New Religious Expression</dc:title>
</cp:coreProperties>
</file>