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386-239D-4E27-BA16-60EB9681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EE9-7B80-4D3E-A3AE-B9FBE05C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9CF-BD16-4DE8-958C-0ED9399B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8F0-A414-4BF6-9C02-79DE42EB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28D4-53D3-4B65-886B-8BB78A72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7812-1D90-4745-A23C-434A3761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D82B-2307-4C86-9FCC-1EB3AAAD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0702-C15E-4AE7-99CB-37068687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C7C2-7544-4302-BC21-46EB4544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D3E2-9438-4576-A478-3F0E7D41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29FD-E5BA-4427-8478-633339B9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D7F-F6D2-4D08-AC8F-3BC3506C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3AAC-CAC7-4DF4-A1DF-D75E44C3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12E1-64DF-45C8-B7D9-29FE64EF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4C78-D064-4640-A159-1F860B43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4D8B-B82A-44AA-978F-4D16193E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2A23-C0A3-447B-89A1-999F2203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0E1-6EE9-4ACC-B5FE-9E3FD24C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56D-193C-4DF7-991A-A4E3B936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90B-DDD0-4413-AA54-5C061B2D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010-B6D3-47EF-AF0F-D62049C7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17F-F614-4F00-8E12-89D2A733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FDA-7C5B-4236-ADF5-7ECE0182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454-90EB-42F7-9D57-1BE7C044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1EF4-7E1D-405A-98B1-47803A52CDC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7AFC-8DDE-4065-BCF2-3055A8F3C17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Rise of New Religious Expres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meditation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3671640" cy="3527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600" y="661500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Arial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 Decline in Traditional Relig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5257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re has been a significant decline in the numbers of people belonging to traditional faith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ever, this does not mean that people are less religious or spiri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w forms of religion are growing in Austral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3564000" cy="4967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New Religions Develo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56000" y="1981080"/>
            <a:ext cx="4608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number of people claiming to be Christian is fall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Faiths such as Buddhism, Islam and Hinduism are gr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Yet, there is also growth in faith described as “other” according to the cens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4105440" cy="512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New Religions Develo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11640" y="1981080"/>
            <a:ext cx="4681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ahoma"/>
              </a:rPr>
              <a:t>New religions often develop out of “old” faith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ahoma"/>
              </a:rPr>
              <a:t>New age faiths have developed out of ancient pagan ritual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095720" cy="432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ge old question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4752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eople still have the same questions about life which they have always ha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ho am 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hy am I he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s there a Go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hy does evil exi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s there life after deat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419280" cy="512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lternative Fait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40360" y="1981080"/>
            <a:ext cx="4752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w, they are seeking answers to these questions in alternative faiths which meet modern day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aith has become much more individual than community ba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924360" cy="51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lternative Fait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32360" y="1981080"/>
            <a:ext cx="3960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eople seek a moral and ethical base in new versions of ancient faiths because they perceive the Western world to have fai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66740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Neo Paganis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16000" y="1981080"/>
            <a:ext cx="42483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Neo Paganism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seeks to connect people with their environ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editative spiritualities are ways for people to find inner peace that they believe are lacking in the predominant relig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601640"/>
            <a:ext cx="4032360" cy="525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Question Ti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64000" y="1981080"/>
            <a:ext cx="324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is membership of  the traditional faiths declining in Austral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610160" cy="40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1:50:49Z</dcterms:created>
  <dc:creator> Karen Devine</dc:creator>
  <dc:description/>
  <dc:language>en-US</dc:language>
  <cp:lastModifiedBy> </cp:lastModifiedBy>
  <dcterms:modified xsi:type="dcterms:W3CDTF">2008-02-25T00:03:01Z</dcterms:modified>
  <cp:revision>3</cp:revision>
  <dc:subject/>
  <dc:title>The Rise of New Religious Expression</dc:title>
</cp:coreProperties>
</file>