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3BB-4594-4C4D-A52B-33F3664D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FCE-905A-4366-A4F6-84D40CEB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CFB-C2DC-4219-88A9-D39A07F6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70D-3E75-4DAD-A469-7543F9B4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D5AB-06DC-428E-9F2A-60AFF0F7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90C8-24DA-47CF-BDFD-AE85ACE1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FEEA-E193-4E31-8099-E18E1165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853E-D6A0-4C11-A93E-D755D183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75CB-5F90-4144-A967-184BA921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01D4-91DE-4960-9F81-9198AEC5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C77E-2558-428F-973A-222FDCBE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B91-1B9C-48EC-B065-BBB1AE49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B7B1-209B-43FF-A462-4A3E2D2F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22F8-E1F5-4902-9BC4-D89FAA20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20BD-A7ED-4FCA-BE4F-74C874B2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6122-7165-42AD-90BC-B4E00897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5E15-516A-414D-A17C-FEB5A215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4A5-5665-47C5-8415-57D75B5A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97A-4D2F-4FA9-ACC0-463879AD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DDA-C874-4142-ACE0-70F97FAD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5A8-099A-484A-AA7D-473BCA4B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3BF-E0A1-4F95-BC99-E322D1CA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362-FA8B-4CBF-AA27-8AE7BCFE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591-A244-4378-AE2E-1F4F1065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664D-133C-4DBF-AA7A-92F594B03C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58D0-D0C8-46C4-AD3D-BCE7D2686BE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4752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cc"/>
                </a:solidFill>
                <a:latin typeface="Tahoma"/>
              </a:rPr>
              <a:t>The Global Distribution of the Five Major Religi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000" y="4869000"/>
            <a:ext cx="432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hristian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sl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Juda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Hindu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uddh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924360" cy="446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966800" y="6643800"/>
            <a:ext cx="11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Tahoma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Tahoma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Christia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61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largest world religion is Christian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Over 1/3 of the population of the world is Christian in the following denomina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atho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Orthod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ngli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ethod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resbyte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ap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eventh Day Adv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916000" cy="46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Christia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27280" y="1628280"/>
            <a:ext cx="3421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hristians are found on every contin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entral belief for Christians is a faith in Jesus the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Yet, there are vast differences in the expression of fai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219640" cy="508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Isla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second largest world religion is Isl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arly ¼ of the world’s population is Musl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ajor centres for Islam are the Middle East and Northern Af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 modern times it has spread to South East A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donesia is the largest Islamic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3924360" cy="558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Hindu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032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induism accounts for 1/7th of the world’s believ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induism is largely concentrated in India and spreads only when Indians migra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35600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Buddh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7920" y="2133720"/>
            <a:ext cx="3790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uddhism has a smaller world population than Hinduism, yet has penetrated into more parts of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392720" cy="544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Juda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681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Judaism is the smallest of the world’s major religions and accounts for 0.5% of the world’s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Jews are found in every country of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4067280" cy="551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Atheis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4824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 modern times there are increasing numbers of people who claim to be atheis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theists amount to over 4% of the world’s popul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re has been a large decline in the numbers of people belonging to traditional faith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35480" y="1844640"/>
            <a:ext cx="390852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Question Ti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has Hinduism not spread throughout the world as much as the other major relig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924360" cy="46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1:49:47Z</dcterms:created>
  <dc:creator> Karen Devine</dc:creator>
  <dc:description/>
  <dc:language>en-US</dc:language>
  <cp:lastModifiedBy> </cp:lastModifiedBy>
  <dcterms:modified xsi:type="dcterms:W3CDTF">2008-02-25T00:17:42Z</dcterms:modified>
  <cp:revision>4</cp:revision>
  <dc:subject/>
  <dc:title>The Global Distribution of the Five Major Relgions</dc:title>
</cp:coreProperties>
</file>