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27D-DCB5-46F2-B0E7-6AE8F2B5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9AB-0536-42DA-90A0-5AF905A7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1C5-62F6-4702-97A9-D09DC6CC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C6C-2388-49AF-A768-0CB94D08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BE94-410E-4D37-A4C2-08594DE9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64C7-4DB2-4A93-A2C5-F3D2F085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EEC4-2691-47B9-9C35-8824ABCA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CE76-E4BB-497A-AB0F-833D7F21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7AB7-64B7-4C1B-A57E-BF3AD7C4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9D82-7ABE-4A22-A0F2-EB7C0281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E453-7ABB-42DA-A221-3A61F4A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AB6-B2B1-4245-8D70-2469C514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F919-7698-4EEA-ABDD-A5446E27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BFEF-3523-4820-87F3-F01CC6B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4335-EB85-457F-A8EA-D08DE82E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437F-F6CC-49ED-8D8C-9547D918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8610-3FC2-4578-9F63-89BD81E7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F52-4188-4812-B750-39C5C585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090-83F6-4C9C-860B-05F90BCB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8DA-8F8F-4DB9-9B7C-54F85E2F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F93-1CF8-4631-B661-0660B009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ADEB-463F-499C-867E-52CB875B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82A-E33B-41F4-8F12-5797A9F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8C8-4E90-4CC8-A58B-8A70198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2BFB-D590-4589-B33E-34CA8D412E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27B9-A0A0-4719-BC92-DD4C54E8D0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4752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cc"/>
                </a:solidFill>
                <a:latin typeface="Tahoma"/>
              </a:rPr>
              <a:t>The Global Distribution of the Five Major Religi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000" y="4869000"/>
            <a:ext cx="432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hristian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sl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Juda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Hindu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uddh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924360" cy="446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966800" y="664380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Tahoma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Christia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61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largest world religion is Christian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ver 1/3 of the population of the world is Christian in the following denomina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atho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rthod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ngli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ethod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resbyte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ap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eventh Day Adv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916000" cy="46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Christia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27280" y="1628280"/>
            <a:ext cx="3421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hristians are found on every contin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entral belief for Christians is a faith in Jesus the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Yet, there are vast differences in the expression of fa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219640" cy="508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Isla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second largest world religion is Isl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arly ¼ of the world’s population is Musl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ajor centres for Islam are the Middle East and Northern Af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modern times it has spread to South East A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donesia is the largest Islamic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3924360" cy="558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Hindu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032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induism accounts for 1/7th of the world’s belie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induism is largely concentrated in India and spreads only when Indians migr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Buddh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7920" y="2133720"/>
            <a:ext cx="3790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uddhism has a smaller world population than Hinduism, yet has penetrated into more parts of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39272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Juda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681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Judaism is the smallest of the world’s major religions and accounts for 0.5% of the world’s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Jews are found in every country of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4067280" cy="551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Atheis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4824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modern times there are increasing numbers of people who claim to be atheis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theists amount to over 4% of the world’s popu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has been a large decline in the numbers of people belonging to traditional faith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35480" y="1844640"/>
            <a:ext cx="390852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Question Ti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has Hinduism not spread throughout the world as much as the other major relig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924360" cy="46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1:49:47Z</dcterms:created>
  <dc:creator> Karen Devine</dc:creator>
  <dc:description/>
  <dc:language>en-US</dc:language>
  <cp:lastModifiedBy> </cp:lastModifiedBy>
  <dcterms:modified xsi:type="dcterms:W3CDTF">2008-02-25T00:17:42Z</dcterms:modified>
  <cp:revision>4</cp:revision>
  <dc:subject/>
  <dc:title>The Global Distribution of the Five Major Relgions</dc:title>
</cp:coreProperties>
</file>