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B09-DE6C-4097-BC61-7A01CA25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96D-91A2-4C06-92D5-A7BE09ED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D09-FC03-4155-8465-BA48A77C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303-9E60-4D30-A7EB-FB31688B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F5B1-3416-4549-A87D-1BC14934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BC5F-BEF6-4B26-B8F8-8AC51E58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2BB1-8FA8-4345-A397-9A8048C8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9553-E435-4DD4-8CB0-488C6BD9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A451-D9B5-4022-9994-A8FEAAC3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9032-FF13-4E89-8897-8A34836A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C048-AA0C-4F62-9190-D15784EF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25A7-FB48-43B4-98B5-D5ADEC20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9DDD-F6A4-4FED-ABA4-D258D840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FC33-20BA-42D8-92A4-49522432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2F49-D99F-404A-A61B-8CBCC4B7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5A49-AAD9-4FC2-9F91-15DA38FB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CC84-B9F8-4772-9107-62BE2413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874-98BF-47C7-A957-9897CA3C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40B-8F04-4C3B-9374-5F02E545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A41A-F812-4F15-AFD7-F5DD45DF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5FA9-0830-4B08-8CCD-2EAC7369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DA0-80AC-43FC-A697-0587440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7B5-AE27-4FAA-8551-06088682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F70-55DB-442D-81ED-3ECC194A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2C91-6ADD-4DA4-B71C-7C7ADFB532A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9DE2-595B-425B-9B1C-7CEF4A3F44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The Rise of New Religious Expres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meditation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3671640" cy="3527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600" y="6615000"/>
            <a:ext cx="115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Arial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 Decline in Traditional Relig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5257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re has been a significant decline in the numbers of people belonging to traditional faith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owever, this does not mean that people are less religious or spirit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w forms of religion are growing in Austral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3564000" cy="4967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New Religions Develo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356000" y="1981080"/>
            <a:ext cx="4608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e number of people claiming to be Christian is fall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Faiths such as Buddhism, Islam and Hinduism are grow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Yet, there is also growth in faith described as “other” according to the cens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733400"/>
            <a:ext cx="4105440" cy="512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New Religions Develo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11640" y="1981080"/>
            <a:ext cx="4681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ahoma"/>
              </a:rPr>
              <a:t>New religions often develop out of “old” faith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ahoma"/>
              </a:rPr>
              <a:t>New age faiths have developed out of ancient pagan ritual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4095720" cy="432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ge old question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47527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eople still have the same questions about life which they have always ha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ho am 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hy am I he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s there a Go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hy does evil exis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s there life after deat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419280" cy="5124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lternative Fait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40360" y="1981080"/>
            <a:ext cx="47527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w, they are seeking answers to these questions in alternative faiths which meet modern day nee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Faith has become much more individual than community ba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924360" cy="51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Alternative Faith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32360" y="1981080"/>
            <a:ext cx="3960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eople seek a moral and ethical base in new versions of ancient faiths because they perceive the Western world to have fai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667400" cy="414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Neo Paganis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716000" y="1981080"/>
            <a:ext cx="42483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Neo Paganism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seeks to connect people with their environ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editative spiritualities are ways for people to find inner peace that they believe are lacking in the predominant relig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601640"/>
            <a:ext cx="4032360" cy="525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Question Ti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64000" y="1981080"/>
            <a:ext cx="324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is membership of  the traditional faiths declining in Australi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610160" cy="40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1:50:49Z</dcterms:created>
  <dc:creator> Karen Devine</dc:creator>
  <dc:description/>
  <dc:language>en-US</dc:language>
  <cp:lastModifiedBy> </cp:lastModifiedBy>
  <dcterms:modified xsi:type="dcterms:W3CDTF">2008-02-25T00:03:01Z</dcterms:modified>
  <cp:revision>3</cp:revision>
  <dc:subject/>
  <dc:title>The Rise of New Religious Expression</dc:title>
</cp:coreProperties>
</file>