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04E-DC4C-4FC1-B898-369F9B7E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0D3-79A8-49C1-BED0-F81FFA6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85D-436B-4C61-AA71-DF676BDBC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E73A-931E-43ED-8DFD-45EC4804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E82-CA01-4084-AE09-F3B475AE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81C0-812E-4FD2-881A-1A2468E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5062-2FDA-4BA7-B1BB-5F05157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51A3-1B63-4236-84A9-EF76C1DE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D3E2-4CD5-4CC8-9237-A30A184A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841F-7F38-44DA-8163-8037578E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BBF1-FA3F-452D-AF3E-CAA051B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5D7-F841-42AD-86D9-9CFA0D69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055E-A97D-49CA-8D57-D33416D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6763-3CC4-4E72-9D76-21C1803B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3289-1E01-4888-B730-989BFCB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5114-BF92-47FB-87B4-27B9A68E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78A8-0D44-43FE-8A83-36D53278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6DA-4424-4223-85E3-E7964D8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3DC-6CF1-4A37-B624-8E52471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0DB-A957-4755-8ACA-AAD1996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28D-9257-4949-A250-AEDFDF25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433-9A1E-426C-848D-EC1F15F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347-1F8F-42CF-91C2-A1C9D1A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92A-09B4-4B15-9245-44918081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104-35AE-413B-B2BB-1F21E80EE0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9BC3-0983-4DDD-8F90-4F4B5F0992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47527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cc"/>
                </a:solidFill>
                <a:latin typeface="Tahoma"/>
              </a:rPr>
              <a:t>The Global Distribution of the Five Major Religion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000" y="486900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Christian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sl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uda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Hindu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uddh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924360" cy="446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616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largest world religion is Christian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ver 1/3 of the population of the world is Christian in the following denomina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athol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Orthod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ngli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thod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resbyte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ap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venth Day Adv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916000" cy="46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Christian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27280" y="1628280"/>
            <a:ext cx="34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Christians are found on every contin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central belief for Christians is a faith in Jesus the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are vast differences in the expression of fai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219640" cy="508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Isla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second largest world religion is Isl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arly ¼ of the world’s population is Musl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major centres for Islam are the Middle East and Northern Af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it has spread to South East A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donesia is the largest Islamic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924360" cy="5589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Hindu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accounts for 1/7th of the world’s belie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Hinduism is largely concentrated in India and spreads only when Indians migra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5373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Buddh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7920" y="2133720"/>
            <a:ext cx="3790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ddhism has a smaller world population than Hinduism, yet has penetrated into more parts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39272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Juda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udaism is the smallest of the world’s major religions and accounts for 0.5% of the world’s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Jews are found in every country of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551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Atheis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4824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 modern times there are increasing numbers of people who claim to be atheis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theists amount to over 4% of the world’s popu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large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35480" y="1844640"/>
            <a:ext cx="390852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Question Tim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has Hinduism not spread throughout the world as much as the other major relig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924360" cy="46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49:47Z</dcterms:created>
  <dc:creator> Karen Devine</dc:creator>
  <dc:description/>
  <dc:language>en-US</dc:language>
  <cp:lastModifiedBy> </cp:lastModifiedBy>
  <dcterms:modified xsi:type="dcterms:W3CDTF">2008-02-25T00:17:42Z</dcterms:modified>
  <cp:revision>4</cp:revision>
  <dc:subject/>
  <dc:title>The Global Distribution of the Five Major Relgions</dc:title>
</cp:coreProperties>
</file>