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406044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680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406044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6800" y="406044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2120" y="191592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39760" y="191592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406044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2120" y="406044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39760" y="406044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6800" y="191592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000" y="1052640"/>
            <a:ext cx="74754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6800" y="191592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406044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680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6800" y="406044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6800" y="191592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406044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cambridge_learn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412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3" name="Picture 28" descr="shcup_pos_m"/>
          <p:cNvPicPr/>
          <p:nvPr/>
        </p:nvPicPr>
        <p:blipFill>
          <a:blip r:embed="rId3"/>
          <a:stretch/>
        </p:blipFill>
        <p:spPr>
          <a:xfrm>
            <a:off x="6588000" y="6237360"/>
            <a:ext cx="2229120" cy="466560"/>
          </a:xfrm>
          <a:prstGeom prst="rect">
            <a:avLst/>
          </a:prstGeom>
          <a:ln w="0">
            <a:noFill/>
          </a:ln>
        </p:spPr>
      </p:pic>
      <p:sp>
        <p:nvSpPr>
          <p:cNvPr id="4" name="Line 2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-1440" y="-1440"/>
            <a:ext cx="9146880" cy="686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Religion and peace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Developments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3816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ugustine’s ‘just war’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Quakers’ ‘pacifism’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2108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ner peace: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eace with God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eace within oneself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eace in relationships with others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ld peace: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 to achieve and maintain 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movements for 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ristians follow ‘the prince of peace’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years, peace interpreted in different ways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ity claims to be a religion of 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302436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00000" y="2060280"/>
            <a:ext cx="6912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igion has been the cause of both war and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igion seeks to promote pe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1280" y="213372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nner 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orld pe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Peace – inner peac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367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ack of personal conflict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t peace with God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309564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Peace – world peac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3598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bsence of war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bsence of preparation of war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ranquillity of the social order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96000" y="1916280"/>
            <a:ext cx="302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7475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ristianity 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eligion of both inner and world peac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Sacred writings  </a:t>
            </a:r>
            <a:r>
              <a:rPr b="1" lang="en-A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4120" y="1915920"/>
            <a:ext cx="3756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w Testame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Jesus’ death to bring pe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God through forgiveness of sin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s display ‘peace’ as fruit of Spiri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dience to Jesus command is love – peac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09564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4120" y="1915920"/>
            <a:ext cx="38275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eace ‘beyond understanding’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 at peace with everyone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to civil authority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360" y="6381720"/>
            <a:ext cx="14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© Hartney, Noble 2008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907560"/>
            <a:ext cx="7475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Christians to be ‘peacemakers’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3816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1052640"/>
            <a:ext cx="747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Times New Roman"/>
              </a:rPr>
              <a:t>Jesus did predict: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pposition and suffering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cial disruption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amily confl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7:41:35Z</dcterms:created>
  <dc:creator>Phil Treble</dc:creator>
  <dc:description/>
  <dc:language>en-US</dc:language>
  <cp:lastModifiedBy>Thuong Du</cp:lastModifiedBy>
  <dcterms:modified xsi:type="dcterms:W3CDTF">2008-10-22T03:06:00Z</dcterms:modified>
  <cp:revision>460</cp:revision>
  <dc:subject/>
  <dc:title>PowerPoint Presentation</dc:title>
</cp:coreProperties>
</file>