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7524-C509-45D5-9A17-1A625713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207B3-3A20-4516-AB2D-092FF097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EF3DA-EDC3-4809-941C-963DCDE9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D428-390D-4AAA-884F-8250C964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9943-129E-4349-9351-C25FD40C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8E23-8445-4499-9F5A-0E76A952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ED6-4F7E-43FD-8325-AE7A46EA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D90-73CE-44CC-AE35-2FBE455B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8B4-41DC-4E9D-8638-7B54766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D17E-98F6-46B8-9620-7D829322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027B-1A69-4E43-9BD9-9F9B972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C434-F6E9-4E7E-8F6B-3F755BFF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735-C029-41BC-B2BC-42B9BC6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8BC1-DEE6-4246-8222-641CFBD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78F9-AA81-4A84-ABED-C4435D16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53E8-3E3B-49D3-86EE-1D0D983F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556-BFED-448F-8B51-E784D3FC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EE49-F632-41E4-92D8-8B390563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B3C1D-634F-4519-B309-056C027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CB85-9D0D-485A-BEF2-8686296C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6A38-5483-4E47-A5CB-2223E55E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1F33-D0E4-4D21-9730-A6532F44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08BE-F8C5-449F-ABE5-D5B3F8F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341C-B145-4945-9893-856E1B66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7D5F-B26C-4773-B7D6-DA7E129D4E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4997-E176-4023-B864-AE7D55397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1640" y="1692360"/>
            <a:ext cx="4032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e5e5ff"/>
                </a:solidFill>
                <a:latin typeface="Garamond"/>
              </a:rPr>
              <a:t>Religion in Histor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87640" y="3715920"/>
            <a:ext cx="352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nim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oly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ono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eaning for the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Cohe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Trans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Indian-Shaman" descr=""/>
          <p:cNvPicPr/>
          <p:nvPr/>
        </p:nvPicPr>
        <p:blipFill>
          <a:blip r:embed="rId1"/>
          <a:stretch/>
        </p:blipFill>
        <p:spPr>
          <a:xfrm>
            <a:off x="0" y="692280"/>
            <a:ext cx="4267080" cy="554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984080" y="66438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allows peop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ind di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eel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elebrat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discover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ke sense of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history religion has had personal, social and cultural elements.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34800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provides social cohe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be a unitive feature for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cient religions, tribal chiefs or medicine men played the role of “mediator” in resolving disputes between peop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times of rapid changes, religious culture is often a key unitive f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140360" cy="476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also destro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5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However, with monotheistic religions, faith has been so unitive that one religion has often waged war on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ch combative cohesion can occur trans-nationally or within a nation as a civil w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s much as religion unites, it can also div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99564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socially transfo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ny of the world’s nations have been transformed by religion. eg: Isra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demonstrate a view of a better future for all n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t often plays roles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pporting established stru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allenging established stru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is dual role indicates that religion is not the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servant of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280" y="134100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People have always practiced a religion, therefore anthropologists  conclude that humans are innately relig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 ancient religious notion is 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ANIM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which means a belief that all living things have a so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imist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worship 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nature for its important role in human existence now and in the fut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Eg: Native Americans would ask forgiveness from the buffalo before it was killed as a sign of resp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 animist’s world everything i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interrel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92436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Ancient peoples were also </a:t>
            </a:r>
            <a:r>
              <a:rPr b="1" lang="en-AU" sz="3600" spc="-1" strike="noStrike">
                <a:solidFill>
                  <a:srgbClr val="ffffff"/>
                </a:solidFill>
                <a:latin typeface="Garamond"/>
              </a:rPr>
              <a:t>POLYTHEISTS</a:t>
            </a: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 or believers in many go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For polytheists, their gods are vastly different to the God of monotheis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859280" cy="51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Polytheists often see that each god is unique, possessing their own personality and playing their own role in human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The gods are worshipped and can have pure or evil inten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induism is an example of a modern day polytheistic fai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92436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MONOTHE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is modern in comparison with polytheis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m is a belief in one g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major monotheistic faith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Juda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ristia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sl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80988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Monotheists believe in a transcendent being beyond the present exis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ituals and stories are used to explain “the other” in monotheistic faith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1600200"/>
            <a:ext cx="511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’s belief in their God leads one to conclude that all other gods must be fal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s see that their god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resent – ever pre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otent – all power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scient – all know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provides meaning for individuals and allows them to find a place in the worl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has also helped people become </a:t>
            </a:r>
            <a:r>
              <a:rPr b="0" i="1" lang="en-AU" sz="3600" spc="-1" strike="noStrike">
                <a:solidFill>
                  <a:srgbClr val="ffffff"/>
                </a:solidFill>
                <a:latin typeface="Garamond"/>
              </a:rPr>
              <a:t>resil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40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7:57Z</dcterms:created>
  <dc:creator> Karen Devine</dc:creator>
  <dc:description/>
  <dc:language>en-US</dc:language>
  <cp:lastModifiedBy> </cp:lastModifiedBy>
  <dcterms:modified xsi:type="dcterms:W3CDTF">2008-02-24T23:57:32Z</dcterms:modified>
  <cp:revision>3</cp:revision>
  <dc:subject/>
  <dc:title>Religion in History</dc:title>
</cp:coreProperties>
</file>