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893EA-FD44-4351-B314-9F317ADFB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49B49-6B13-4DE1-9534-ADCDF3E4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F6D49-9E73-4AB0-B088-FD03D3451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C760C-1C45-45C4-9B5C-D05D03D41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99344-4450-420A-BDB4-4B6CD3444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D44D1-3486-4F61-8F04-84AE08EA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074F-8FCF-429F-9E9D-3C093B5F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0919-4E1C-4484-9FB2-990FB216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1DB27-69E8-453D-8682-C02548F7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0AEA-4DEC-4FCD-8194-2A3438BE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7CBE-5DE1-45AA-8292-CB64C2CE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4F54D-0053-4132-97F5-EC1F97A0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165F-AB23-4072-A67E-21CFB372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83D44-D782-4C02-AEA2-B1D0915A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DB4A-7237-4996-9C9F-74DFDE19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6296-D3F8-4319-BFC3-AC621EA29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EFBE-F6C6-41C4-AF79-389B6D650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EFED5-28F8-4E23-9497-A06F0D21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17376-5970-42A3-BD17-768EFCB2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61403-5FDA-4F86-9FE0-C534CAFF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1CA6C-E186-4216-9287-F610FC97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56024-2114-4DF5-B5B2-E14F3F16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8C21F-3B6E-4966-A62D-98508E2D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13FF5-61B7-48B8-8E86-F56E2408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BD88-28CC-4348-B494-E5674A69EC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610C-C5C7-4CD6-8EA6-CCE46D52BE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1640" y="1692360"/>
            <a:ext cx="4032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e5e5ff"/>
                </a:solidFill>
                <a:latin typeface="Garamond"/>
              </a:rPr>
              <a:t>Religion in History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787640" y="3715920"/>
            <a:ext cx="35290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Animis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Polytheis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Monotheis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Meaning for the Individu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Social Cohe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Social Transform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Indian-Shaman" descr=""/>
          <p:cNvPicPr/>
          <p:nvPr/>
        </p:nvPicPr>
        <p:blipFill>
          <a:blip r:embed="rId1"/>
          <a:stretch/>
        </p:blipFill>
        <p:spPr>
          <a:xfrm>
            <a:off x="0" y="692280"/>
            <a:ext cx="4267080" cy="5545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984080" y="6643800"/>
            <a:ext cx="115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AU" sz="800" spc="-1" strike="noStrike">
                <a:solidFill>
                  <a:srgbClr val="ffffff"/>
                </a:solidFill>
                <a:latin typeface="Arial"/>
              </a:rPr>
              <a:t> Karen Devine 200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e5e5ff"/>
                </a:solidFill>
                <a:latin typeface="Garamond"/>
              </a:rPr>
              <a:t>Religion provides meaning for individual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06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Religion allows people t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find dire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feel suppor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celebrate lif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discover valu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make sense of the worl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In history religion has had personal, social and cultural elements.</a:t>
            </a:r>
            <a:r>
              <a:rPr b="1" lang="en-AU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796000" y="1628640"/>
            <a:ext cx="3348000" cy="5229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Religion provides social cohes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284360" y="1600200"/>
            <a:ext cx="460836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Religion can be a unitive feature for societ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In ancient religions, tribal chiefs or medicine men played the role of “mediator” in resolving disputes between peopl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In times of rapid changes, religious culture is often a key unitive for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4140360" cy="4762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Religion can also destro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067280" y="1600200"/>
            <a:ext cx="47527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However, with monotheistic religions, faith has been so unitive that one religion has often waged war on anoth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Such combative cohesion can occur trans-nationally or within a nation as a civil w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As much as religion unites, it can also divid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3995640" cy="5229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Religion can socially transfor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Many of the world’s nations have been transformed by religion. eg: Israe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Religion can demonstrate a view of a better future for all nat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It often plays roles of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supporting established structu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challenging established structur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This dual role indicates that religion is not the </a:t>
            </a:r>
            <a:r>
              <a:rPr b="0" i="1" lang="en-AU" sz="3200" spc="-1" strike="noStrike">
                <a:solidFill>
                  <a:srgbClr val="ffffff"/>
                </a:solidFill>
                <a:latin typeface="Garamond"/>
              </a:rPr>
              <a:t>servant of societ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Animis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27280" y="1341000"/>
            <a:ext cx="4537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People have always practiced a religion, therefore anthropologists  conclude that humans are innately religiou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An ancient religious notion is </a:t>
            </a:r>
            <a:r>
              <a:rPr b="1" lang="en-AU" sz="3200" spc="-1" strike="noStrike">
                <a:solidFill>
                  <a:srgbClr val="ffffff"/>
                </a:solidFill>
                <a:latin typeface="Garamond"/>
              </a:rPr>
              <a:t>ANIMISM</a:t>
            </a: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 which means a belief that all living things have a sou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4356000" cy="5373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Animis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95280" y="1600200"/>
            <a:ext cx="49690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Animists </a:t>
            </a:r>
            <a:r>
              <a:rPr b="0" i="1" lang="en-AU" sz="3200" spc="-1" strike="noStrike">
                <a:solidFill>
                  <a:srgbClr val="ffffff"/>
                </a:solidFill>
                <a:latin typeface="Garamond"/>
              </a:rPr>
              <a:t>worship </a:t>
            </a: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nature for its important role in human existence now and in the futu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Eg: Native Americans would ask forgiveness from the buffalo before it was killed as a sign of respec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In an animist’s world everything is </a:t>
            </a:r>
            <a:r>
              <a:rPr b="0" i="1" lang="en-AU" sz="3200" spc="-1" strike="noStrike">
                <a:solidFill>
                  <a:srgbClr val="ffffff"/>
                </a:solidFill>
                <a:latin typeface="Garamond"/>
              </a:rPr>
              <a:t>interrelat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3924360" cy="4464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Polytheis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403236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Garamond"/>
              </a:rPr>
              <a:t>Ancient peoples were also </a:t>
            </a:r>
            <a:r>
              <a:rPr b="1" lang="en-AU" sz="3600" spc="-1" strike="noStrike">
                <a:solidFill>
                  <a:srgbClr val="ffffff"/>
                </a:solidFill>
                <a:latin typeface="Garamond"/>
              </a:rPr>
              <a:t>POLYTHEISTS</a:t>
            </a:r>
            <a:r>
              <a:rPr b="0" lang="en-AU" sz="3600" spc="-1" strike="noStrike">
                <a:solidFill>
                  <a:srgbClr val="ffffff"/>
                </a:solidFill>
                <a:latin typeface="Garamond"/>
              </a:rPr>
              <a:t> or believers in many god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Garamond"/>
              </a:rPr>
              <a:t>For polytheists, their gods are vastly different to the God of monotheist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284720" y="1700280"/>
            <a:ext cx="4859280" cy="5157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Polytheis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4753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Garamond"/>
              </a:rPr>
              <a:t>Polytheists often see that each god is unique, possessing their own personality and playing their own role in human liv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Garamond"/>
              </a:rPr>
              <a:t>The gods are worshipped and can have pure or evil intentio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Garamond"/>
              </a:rPr>
              <a:t>Hinduism is an example of a modern day polytheistic faith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219640" y="1413000"/>
            <a:ext cx="3924360" cy="5445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Monotheis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95280" y="1600200"/>
            <a:ext cx="49690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Garamond"/>
              </a:rPr>
              <a:t>MONOTHEISM</a:t>
            </a: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 is modern in comparison with polytheis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Monotheism is a belief in one g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The major monotheistic faiths ar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Juda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Christian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Isl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3809880" cy="5373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Monotheis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3672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Garamond"/>
              </a:rPr>
              <a:t>Monotheists believe in a transcendent being beyond the present existenc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Garamond"/>
              </a:rPr>
              <a:t>Rituals and stories are used to explain “the other” in monotheistic faith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067280" y="1341360"/>
            <a:ext cx="5076720" cy="5516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Monotheis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779640" y="1600200"/>
            <a:ext cx="5113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Monotheist’s belief in their God leads one to conclude that all other gods must be fal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Monotheists see that their god 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Omnipresent – ever pres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Omnipotent – all powerfu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Omniscient – all know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3708360" cy="5300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e5e5ff"/>
                </a:solidFill>
                <a:latin typeface="Garamond"/>
              </a:rPr>
              <a:t>Religion provides meaning for individual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356000" y="1600200"/>
            <a:ext cx="46087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Garamond"/>
              </a:rPr>
              <a:t>Religion provides meaning for individuals and allows them to find a place in the world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Garamond"/>
              </a:rPr>
              <a:t>Religion has also helped people become </a:t>
            </a:r>
            <a:r>
              <a:rPr b="0" i="1" lang="en-AU" sz="3600" spc="-1" strike="noStrike">
                <a:solidFill>
                  <a:srgbClr val="ffffff"/>
                </a:solidFill>
                <a:latin typeface="Garamond"/>
              </a:rPr>
              <a:t>resilien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4140360" cy="5300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21:47:57Z</dcterms:created>
  <dc:creator> Karen Devine</dc:creator>
  <dc:description/>
  <dc:language>en-US</dc:language>
  <cp:lastModifiedBy> </cp:lastModifiedBy>
  <dcterms:modified xsi:type="dcterms:W3CDTF">2008-02-24T23:57:32Z</dcterms:modified>
  <cp:revision>3</cp:revision>
  <dc:subject/>
  <dc:title>Religion in History</dc:title>
</cp:coreProperties>
</file>