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7AF4-48C2-44B0-85B2-194D5640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FF17-932E-41E8-9B6D-D691608B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32584-BDA5-4FB8-B1D0-32A385E0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C2106-6D54-4519-994F-09741583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03DB-5C5D-436E-8923-DE948DF3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32D0-2165-47F1-912C-D90D6650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4575-C0BE-4213-882C-4F22A082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19AC-F31F-4D01-865F-FA269372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AF63-4924-4B49-9ED1-76354A80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A962-F93F-46D9-9150-46E22465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642D-EF02-4B71-80C8-B8282AD7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0005B-F121-46E9-8C16-46F1A7AF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FE04-0B8E-43E0-A73E-29B02AB8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EE84-044F-4812-BEEB-A7A7BE45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6CBE-BF7A-40A6-ADA9-B08941B5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E373-9D7D-4880-9CAB-6C1247F6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0594-6DB1-420F-AEBF-167EC4E1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1CBD-9625-4DC3-B3DA-8AE424E4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193F-D523-4534-AE1B-38CA2DC2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BF2CE-616D-4EF6-9FB4-D808AB50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329F-023A-48B7-9037-74B732EA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3F835-0CF9-45DF-9413-C4F2979C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072D-D8A0-4917-9386-6104AE0D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E828-4AF5-4649-B95D-BE00461A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B23A-6254-46AB-8266-76AD0032AF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E1B5-3196-4ADB-A69F-D1E3C17570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1640" y="1692360"/>
            <a:ext cx="4032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e5e5ff"/>
                </a:solidFill>
                <a:latin typeface="Garamond"/>
              </a:rPr>
              <a:t>Religion in History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787640" y="3715920"/>
            <a:ext cx="352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Anim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Polythe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Monothei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Meaning for the Individu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Social Cohe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Social Transform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Indian-Shaman" descr=""/>
          <p:cNvPicPr/>
          <p:nvPr/>
        </p:nvPicPr>
        <p:blipFill>
          <a:blip r:embed="rId1"/>
          <a:stretch/>
        </p:blipFill>
        <p:spPr>
          <a:xfrm>
            <a:off x="0" y="692280"/>
            <a:ext cx="4267080" cy="5545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984080" y="6643800"/>
            <a:ext cx="115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AU" sz="800" spc="-1" strike="noStrike">
                <a:solidFill>
                  <a:srgbClr val="ffffff"/>
                </a:solidFill>
                <a:latin typeface="Arial"/>
              </a:rPr>
              <a:t> Karen Devin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Religion provides meaning for individual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Religion allows people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find dir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feel sup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celebrate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discover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make sense of the wor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n history religion has had personal, social and cultural elements.</a:t>
            </a:r>
            <a:r>
              <a:rPr b="1" lang="en-A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348000" cy="522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Religion provides social cohe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4360" y="1600200"/>
            <a:ext cx="4608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Religion can be a unitive feature for socie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n ancient religions, tribal chiefs or medicine men played the role of “mediator” in resolving disputes between peop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n times of rapid changes, religious culture is often a key unitive fo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140360" cy="476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Religion can also destro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52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However, with monotheistic religions, faith has been so unitive that one religion has often waged war on ano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Such combative cohesion can occur trans-nationally or within a nation as a civil w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As much as religion unites, it can also divi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995640" cy="522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Religion can socially transfor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Many of the world’s nations have been transformed by religion. eg: Isra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Religion can demonstrate a view of a better future for all na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t often plays roles of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supporting established struc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challenging established struct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is dual role indicates that religion is not the </a:t>
            </a:r>
            <a:r>
              <a:rPr b="0" i="1" lang="en-AU" sz="3200" spc="-1" strike="noStrike">
                <a:solidFill>
                  <a:srgbClr val="ffffff"/>
                </a:solidFill>
                <a:latin typeface="Garamond"/>
              </a:rPr>
              <a:t>servant of socie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Anim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7280" y="1341000"/>
            <a:ext cx="4537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People have always practiced a religion, therefore anthropologists  conclude that humans are innately religio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An ancient religious notion is </a:t>
            </a:r>
            <a:r>
              <a:rPr b="1" lang="en-AU" sz="3200" spc="-1" strike="noStrike">
                <a:solidFill>
                  <a:srgbClr val="ffffff"/>
                </a:solidFill>
                <a:latin typeface="Garamond"/>
              </a:rPr>
              <a:t>ANIMISM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 which means a belief that all living things have a so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356000" cy="537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Anim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969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Animists </a:t>
            </a:r>
            <a:r>
              <a:rPr b="0" i="1" lang="en-AU" sz="3200" spc="-1" strike="noStrike">
                <a:solidFill>
                  <a:srgbClr val="ffffff"/>
                </a:solidFill>
                <a:latin typeface="Garamond"/>
              </a:rPr>
              <a:t>worship 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nature for its important role in human existence now and in the fut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Eg: Native Americans would ask forgiveness from the buffalo before it was killed as a sign of respe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n an animist’s world everything is </a:t>
            </a:r>
            <a:r>
              <a:rPr b="0" i="1" lang="en-AU" sz="3200" spc="-1" strike="noStrike">
                <a:solidFill>
                  <a:srgbClr val="ffffff"/>
                </a:solidFill>
                <a:latin typeface="Garamond"/>
              </a:rPr>
              <a:t>interrela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924360" cy="446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Polythe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032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Ancient peoples were also </a:t>
            </a:r>
            <a:r>
              <a:rPr b="1" lang="en-AU" sz="3600" spc="-1" strike="noStrike">
                <a:solidFill>
                  <a:srgbClr val="ffffff"/>
                </a:solidFill>
                <a:latin typeface="Garamond"/>
              </a:rPr>
              <a:t>POLYTHEISTS</a:t>
            </a: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 or believers in many gods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For polytheists, their gods are vastly different to the God of monotheist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4859280" cy="5157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Polythe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75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Polytheists often see that each god is unique, possessing their own personality and playing their own role in human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The gods are worshipped and can have pure or evil inten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Hinduism is an example of a modern day polytheistic fai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924360" cy="544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Monothe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969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Garamond"/>
              </a:rPr>
              <a:t>MONOTHEISM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 is modern in comparison with polytheis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Monotheism is a belief in one g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 major monotheistic faiths 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Juda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Christian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Isl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809880" cy="537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Monothe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3672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Monotheists believe in a transcendent being beyond the present existenc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Rituals and stories are used to explain “the other” in monotheistic faith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5076720" cy="551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Monotheis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79640" y="1600200"/>
            <a:ext cx="511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Monotheist’s belief in their God leads one to conclude that all other gods must be fal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Monotheists see that their god 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Omnipresent – ever pres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Omnipotent – all powerfu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Omniscient – all know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3708360" cy="530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Religion provides meaning for individual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Religion provides meaning for individuals and allows them to find a place in the worl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Garamond"/>
              </a:rPr>
              <a:t>Religion has also helped people become </a:t>
            </a:r>
            <a:r>
              <a:rPr b="0" i="1" lang="en-AU" sz="3600" spc="-1" strike="noStrike">
                <a:solidFill>
                  <a:srgbClr val="ffffff"/>
                </a:solidFill>
                <a:latin typeface="Garamond"/>
              </a:rPr>
              <a:t>resil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140360" cy="5300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1:47:57Z</dcterms:created>
  <dc:creator> Karen Devine</dc:creator>
  <dc:description/>
  <dc:language>en-US</dc:language>
  <cp:lastModifiedBy> </cp:lastModifiedBy>
  <dcterms:modified xsi:type="dcterms:W3CDTF">2008-02-24T23:57:32Z</dcterms:modified>
  <cp:revision>3</cp:revision>
  <dc:subject/>
  <dc:title>Religion in History</dc:title>
</cp:coreProperties>
</file>