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A3B-4716-4395-B3CB-77293DED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F28-16CA-4D2B-99DB-A37C680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F4D-A388-4B13-9689-B17301D8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F04-BD0D-4771-9F6A-C7D37CD0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C4C-6FD6-412E-A157-7024CC26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E79-C230-4514-B8F3-2E94F68B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F6A-F600-4128-86BD-7D7F681E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20B-F28B-4A59-B5FD-E4504D1D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502-13B4-4734-A518-58D4A9EE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2EB-C727-4BAB-B4B0-3EA71722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76D-F72B-49CC-9433-68F3498E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281-50A9-4A7E-9D08-12A6421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2E0F-8633-49E0-8037-B5A67E1D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01720" y="1197000"/>
            <a:ext cx="532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book2"/>
          <p:cNvPicPr/>
          <p:nvPr/>
        </p:nvPicPr>
        <p:blipFill>
          <a:blip r:embed="rId1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lectern"/>
          <p:cNvPicPr/>
          <p:nvPr/>
        </p:nvPicPr>
        <p:blipFill>
          <a:blip r:embed="rId2"/>
          <a:stretch/>
        </p:blipFill>
        <p:spPr>
          <a:xfrm>
            <a:off x="3348000" y="2421000"/>
            <a:ext cx="2387520" cy="2268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ook2"/>
          <p:cNvPicPr/>
          <p:nvPr/>
        </p:nvPicPr>
        <p:blipFill>
          <a:blip r:embed="rId3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ok2"/>
          <p:cNvPicPr/>
          <p:nvPr/>
        </p:nvPicPr>
        <p:blipFill>
          <a:blip r:embed="rId4"/>
          <a:stretch/>
        </p:blipFill>
        <p:spPr>
          <a:xfrm>
            <a:off x="250920" y="494172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ok2"/>
          <p:cNvPicPr/>
          <p:nvPr/>
        </p:nvPicPr>
        <p:blipFill>
          <a:blip r:embed="rId5"/>
          <a:stretch/>
        </p:blipFill>
        <p:spPr>
          <a:xfrm>
            <a:off x="108000" y="189000"/>
            <a:ext cx="1123920" cy="1771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692360" y="15573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42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9825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113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8776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701100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 rot="16200000">
            <a:off x="-207720" y="421056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 rot="16200000">
            <a:off x="1323720" y="38725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 rot="16200000">
            <a:off x="183168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 rot="16200000">
            <a:off x="312732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 rot="16200000">
            <a:off x="4380480" y="38959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 rot="16200000">
            <a:off x="6108840" y="399816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 rot="16200000">
            <a:off x="7419240" y="3797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68720" y="2060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98108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83240" y="1125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292200" y="174960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6400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48006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620480" y="20541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31"/>
          <p:cNvSpPr/>
          <p:nvPr/>
        </p:nvSpPr>
        <p:spPr>
          <a:xfrm>
            <a:off x="2411280" y="0"/>
            <a:ext cx="41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written by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aul’s own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05080" y="20304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attributed to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109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7446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734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249600" y="2816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1430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32560" y="11937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971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 rot="16200000">
            <a:off x="763920" y="42458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85600" y="35035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 rot="16200000">
            <a:off x="4135320" y="45133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16200000">
            <a:off x="6132600" y="3967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63270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 rot="16200000">
            <a:off x="70128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 flipH="1">
            <a:off x="2843280" y="357336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5148360" y="3573360"/>
            <a:ext cx="9903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80096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70608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9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Letters ascribed to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6"/>
          <p:cNvSpPr/>
          <p:nvPr/>
        </p:nvSpPr>
        <p:spPr>
          <a:xfrm>
            <a:off x="826920" y="83664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ul's letters follow the common style of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63640" y="2492280"/>
            <a:ext cx="58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pen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anks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in body of th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trinal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inal Sal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book2"/>
          <p:cNvPicPr/>
          <p:nvPr/>
        </p:nvPicPr>
        <p:blipFill>
          <a:blip r:embed="rId3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ook2"/>
          <p:cNvPicPr/>
          <p:nvPr/>
        </p:nvPicPr>
        <p:blipFill>
          <a:blip r:embed="rId4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book2"/>
          <p:cNvPicPr/>
          <p:nvPr/>
        </p:nvPicPr>
        <p:blipFill>
          <a:blip r:embed="rId5"/>
          <a:stretch/>
        </p:blipFill>
        <p:spPr>
          <a:xfrm>
            <a:off x="7812000" y="2349360"/>
            <a:ext cx="1123920" cy="17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3:39:44Z</dcterms:created>
  <dc:creator>Trish Bartlett</dc:creator>
  <dc:description/>
  <dc:language>en-US</dc:language>
  <cp:lastModifiedBy>Michael Pate User</cp:lastModifiedBy>
  <dcterms:modified xsi:type="dcterms:W3CDTF">2009-03-08T03:03:47Z</dcterms:modified>
  <cp:revision>7</cp:revision>
  <dc:subject/>
  <dc:title>Slide 1</dc:title>
</cp:coreProperties>
</file>