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ED3D-397E-4431-8F38-8B78B606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F4C-505C-4887-B231-5A544A8A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6BD-2D88-4DBA-A71A-B5C320F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694-26C0-4945-B842-967E4D99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8FB-E834-4A01-9C0F-67D8AB9C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EC0-0338-408B-9749-A23B3CA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939-9D5D-45D0-832D-78D969BA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5E4-CBEC-4D40-94E3-44089067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89C1-8CE6-48A0-B485-D056EAD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99F-8BD9-4E4D-BF06-F2201AE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042-9FE0-494B-908B-D58625B9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411-57C9-4E41-A770-EA26577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E4D9-00D6-4E74-86D2-0EBEC738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 flipH="1">
            <a:off x="6858000" y="2895480"/>
            <a:ext cx="838080" cy="6858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H="1">
            <a:off x="6248160" y="3581280"/>
            <a:ext cx="609480" cy="763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 flipH="1" flipV="1">
            <a:off x="5486040" y="2895120"/>
            <a:ext cx="685800" cy="7621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5562720" y="2057400"/>
            <a:ext cx="88920" cy="77472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5638680" y="2057400"/>
            <a:ext cx="381240" cy="2286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5943600" y="2286000"/>
            <a:ext cx="0" cy="1522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6019920" y="2514600"/>
            <a:ext cx="457200" cy="763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436480" y="15228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First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5435640" y="2133720"/>
            <a:ext cx="2171520" cy="109224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3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72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4" name="Picture 3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3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76" name="Group 3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77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9" name="Group 3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80" name="Picture 38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2" name="Picture 40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436840" y="1522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Second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6708600" y="46483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aes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632280" y="434340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tole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6936840" y="41911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6934320" y="40384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087320" y="23623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r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3735720" y="1447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125520" y="914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Neapo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2591280" y="8380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514960" y="1219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pol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1679760" y="121932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er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1600920" y="9907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ssal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2896200" y="2514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1906200" y="24382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4190760" y="2286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5"/>
          <p:cNvSpPr/>
          <p:nvPr/>
        </p:nvSpPr>
        <p:spPr>
          <a:xfrm>
            <a:off x="2235240" y="1015920"/>
            <a:ext cx="5537160" cy="40896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6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49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121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Picture 51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52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125" name="Group 53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28" name="Group 55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129" name="Picture 56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5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31" name="Picture 58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436480" y="1522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Third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708600" y="46483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aes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632280" y="434340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tole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936840" y="41911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34320" y="40384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7087320" y="23623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r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735720" y="1447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125520" y="914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Neapo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2591280" y="8380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14960" y="1219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pol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679760" y="121932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er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1677240" y="106668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ssal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896200" y="2514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1906200" y="24382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190760" y="2286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2973960" y="37339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R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6"/>
          <p:cNvSpPr/>
          <p:nvPr/>
        </p:nvSpPr>
        <p:spPr>
          <a:xfrm>
            <a:off x="3987720" y="2057400"/>
            <a:ext cx="3861000" cy="76212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7"/>
          <p:cNvSpPr/>
          <p:nvPr/>
        </p:nvSpPr>
        <p:spPr>
          <a:xfrm>
            <a:off x="2247840" y="1028880"/>
            <a:ext cx="5372280" cy="39240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5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172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4" name="Picture 5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5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176" name="Group 5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177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79" name="Group 5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180" name="Picture 58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5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82" name="Picture 60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171880" y="9360"/>
            <a:ext cx="487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Letters written by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5238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352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648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3352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0/51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821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4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8109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5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87692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6/57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701028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7/58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 rot="16200000">
            <a:off x="-77400" y="4344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 rot="16200000">
            <a:off x="1391400" y="394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ala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 rot="16200000">
            <a:off x="1903680" y="41918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 rot="16200000">
            <a:off x="3198960" y="41918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 rot="16200000">
            <a:off x="4431240" y="3950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 rot="16200000">
            <a:off x="6157800" y="40518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hilipp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 rot="16200000">
            <a:off x="7488360" y="3866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45684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98072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834840" y="119700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lace where the Letters we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61160" y="56386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aul’s own Le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3352320" y="175248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ced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lly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4004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48002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761976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4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213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5" name="Picture 43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4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217" name="Group 4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218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20" name="Group 4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221" name="Picture 48" descr="signatur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4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23" name="Picture 50" descr=""/>
            <p:cNvPicPr/>
            <p:nvPr/>
          </p:nvPicPr>
          <p:blipFill>
            <a:blip r:embed="rId10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171880" y="9360"/>
            <a:ext cx="487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Letters attributed to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259092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495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05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7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74428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8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57308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9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248880" y="2819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10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1426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979200" y="126828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lace where the Letters we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61880" y="56386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Letters ascribed to 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9714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 rot="16200000">
            <a:off x="849600" y="43322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lo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582000" y="3505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phe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 rot="16200000">
            <a:off x="4265640" y="464904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 rot="16200000">
            <a:off x="6149880" y="3984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 rot="16200000">
            <a:off x="6357240" y="430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 rot="16200000">
            <a:off x="7043040" y="430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2819520" y="3733920"/>
            <a:ext cx="7617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5029200" y="3733920"/>
            <a:ext cx="99072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4799520" y="20574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4640" y="20574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Group 39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251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3" name="Picture 4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42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255" name="Group 43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256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8" name="Group 45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259" name="Picture 46" descr="signatur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61" name="Picture 48" descr=""/>
            <p:cNvPicPr/>
            <p:nvPr/>
          </p:nvPicPr>
          <p:blipFill>
            <a:blip r:embed="rId10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3:52:50Z</dcterms:created>
  <dc:creator>Trish Bartlett</dc:creator>
  <dc:description/>
  <dc:language>en-US</dc:language>
  <cp:lastModifiedBy>Michael Pate User</cp:lastModifiedBy>
  <dcterms:modified xsi:type="dcterms:W3CDTF">2009-03-08T03:06:59Z</dcterms:modified>
  <cp:revision>7</cp:revision>
  <dc:subject/>
  <dc:title>Slide 1</dc:title>
</cp:coreProperties>
</file>