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CEED-9AE9-4308-89B4-21D81D21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82F3-9530-48F0-A4AD-9A28FDF1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413C-98FA-4DCC-BF2C-7A65774E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27D-B709-46AD-9EB4-D7EB8376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738-7D36-49F3-95CD-81225A7A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E407-EDBF-451C-B1D8-661AEDA6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D376-A925-4CF5-A866-496175F5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F0E-2CBF-439F-9A1B-3D98945C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65FE-A071-4EA0-905B-3C69A5DB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72D-71B9-45CB-9F7B-BE7F47BC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5C31-B250-4914-B04F-B672E3B4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172-3B5B-4354-8AE1-A0D2E047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5E76-F57E-44B6-80CF-CA299CBD1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auto0"/>
          <p:cNvPicPr/>
          <p:nvPr/>
        </p:nvPicPr>
        <p:blipFill>
          <a:blip r:embed="rId1"/>
          <a:stretch/>
        </p:blipFill>
        <p:spPr>
          <a:xfrm>
            <a:off x="609480" y="685800"/>
            <a:ext cx="7777440" cy="54133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685800" y="762120"/>
            <a:ext cx="7696080" cy="5257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860880" y="487692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Jerusa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698600" y="26668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nti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eleu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782760" y="350532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ala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5791680" y="358128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aph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800600" y="1828800"/>
            <a:ext cx="70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isi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nti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879080" y="26668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t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250680" y="342900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CYPR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021720" y="228600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Ly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261040" y="251460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er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6479640" y="2514600"/>
            <a:ext cx="5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Der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4726800" y="243828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PISI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7696800" y="32004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Y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3584880" y="4343400"/>
            <a:ext cx="22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MEDITERRANEAN S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7775280" y="4952880"/>
            <a:ext cx="53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e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5793480" y="556272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"/>
          <p:cNvSpPr/>
          <p:nvPr/>
        </p:nvSpPr>
        <p:spPr>
          <a:xfrm flipH="1">
            <a:off x="6858000" y="2895480"/>
            <a:ext cx="838080" cy="68580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 flipH="1">
            <a:off x="6248160" y="3581280"/>
            <a:ext cx="609480" cy="7632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1"/>
          <p:cNvSpPr/>
          <p:nvPr/>
        </p:nvSpPr>
        <p:spPr>
          <a:xfrm flipH="1" flipV="1">
            <a:off x="5486040" y="2895120"/>
            <a:ext cx="685800" cy="76212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2"/>
          <p:cNvSpPr/>
          <p:nvPr/>
        </p:nvSpPr>
        <p:spPr>
          <a:xfrm>
            <a:off x="5562720" y="2057400"/>
            <a:ext cx="88920" cy="774720"/>
          </a:xfrm>
          <a:prstGeom prst="pie">
            <a:avLst/>
          </a:pr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6096960" y="20574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Ico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>
            <a:off x="5638680" y="2057400"/>
            <a:ext cx="381240" cy="22860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5"/>
          <p:cNvSpPr/>
          <p:nvPr/>
        </p:nvSpPr>
        <p:spPr>
          <a:xfrm>
            <a:off x="5943600" y="2286000"/>
            <a:ext cx="0" cy="152280"/>
          </a:xfrm>
          <a:prstGeom prst="line">
            <a:avLst/>
          </a:prstGeom>
          <a:ln w="572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6"/>
          <p:cNvSpPr/>
          <p:nvPr/>
        </p:nvSpPr>
        <p:spPr>
          <a:xfrm>
            <a:off x="6019920" y="2514600"/>
            <a:ext cx="457200" cy="7632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2436480" y="152280"/>
            <a:ext cx="40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aul’s First Missionary Jour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8"/>
          <p:cNvSpPr/>
          <p:nvPr/>
        </p:nvSpPr>
        <p:spPr>
          <a:xfrm>
            <a:off x="5435640" y="2133720"/>
            <a:ext cx="2171520" cy="1092240"/>
          </a:xfrm>
          <a:prstGeom prst="pie">
            <a:avLst/>
          </a:prstGeom>
          <a:noFill/>
          <a:ln w="38160">
            <a:solidFill>
              <a:srgbClr val="bbe0e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8646480" y="0"/>
            <a:ext cx="49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OHP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6429240"/>
          <a:ext cx="7704000" cy="42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29240"/>
                    <a:ext cx="77040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" name="Group 31"/>
          <p:cNvGrpSpPr/>
          <p:nvPr/>
        </p:nvGrpSpPr>
        <p:grpSpPr>
          <a:xfrm>
            <a:off x="0" y="0"/>
            <a:ext cx="2050920" cy="1701720"/>
            <a:chOff x="0" y="0"/>
            <a:chExt cx="2050920" cy="1701720"/>
          </a:xfrm>
        </p:grpSpPr>
        <p:graphicFrame>
          <p:nvGraphicFramePr>
            <p:cNvPr id="72" name=""/>
            <p:cNvGraphicFramePr/>
            <p:nvPr/>
          </p:nvGraphicFramePr>
          <p:xfrm>
            <a:off x="0" y="0"/>
            <a:ext cx="2050920" cy="1701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0"/>
                      <a:ext cx="2050920" cy="170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4" name="Picture 33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014120" cy="89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Group 34"/>
          <p:cNvGrpSpPr/>
          <p:nvPr/>
        </p:nvGrpSpPr>
        <p:grpSpPr>
          <a:xfrm>
            <a:off x="7236000" y="5445000"/>
            <a:ext cx="1908000" cy="1413000"/>
            <a:chOff x="7236000" y="5445000"/>
            <a:chExt cx="1908000" cy="1413000"/>
          </a:xfrm>
        </p:grpSpPr>
        <p:grpSp>
          <p:nvGrpSpPr>
            <p:cNvPr id="76" name="Group 35"/>
            <p:cNvGrpSpPr/>
            <p:nvPr/>
          </p:nvGrpSpPr>
          <p:grpSpPr>
            <a:xfrm>
              <a:off x="7236000" y="5445000"/>
              <a:ext cx="1908000" cy="1403640"/>
              <a:chOff x="7236000" y="5445000"/>
              <a:chExt cx="1908000" cy="1403640"/>
            </a:xfrm>
          </p:grpSpPr>
          <p:graphicFrame>
            <p:nvGraphicFramePr>
              <p:cNvPr id="77" name=""/>
              <p:cNvGraphicFramePr/>
              <p:nvPr/>
            </p:nvGraphicFramePr>
            <p:xfrm>
              <a:off x="7286760" y="5445000"/>
              <a:ext cx="1857240" cy="1403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286760" y="5445000"/>
                        <a:ext cx="1857240" cy="1403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79" name="Group 37"/>
              <p:cNvGrpSpPr/>
              <p:nvPr/>
            </p:nvGrpSpPr>
            <p:grpSpPr>
              <a:xfrm>
                <a:off x="7236000" y="6434280"/>
                <a:ext cx="775080" cy="329760"/>
                <a:chOff x="7236000" y="6434280"/>
                <a:chExt cx="775080" cy="329760"/>
              </a:xfrm>
            </p:grpSpPr>
            <p:pic>
              <p:nvPicPr>
                <p:cNvPr id="80" name="Picture 38" descr="signature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236000" y="6434280"/>
                  <a:ext cx="765360" cy="32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695000" y="6504840"/>
                  <a:ext cx="316080" cy="169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2" name="Picture 40" descr=""/>
            <p:cNvPicPr/>
            <p:nvPr/>
          </p:nvPicPr>
          <p:blipFill>
            <a:blip r:embed="rId11"/>
            <a:stretch/>
          </p:blipFill>
          <p:spPr>
            <a:xfrm>
              <a:off x="7899120" y="5915880"/>
              <a:ext cx="1153080" cy="94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436840" y="152280"/>
            <a:ext cx="44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aul’s Second Missionary Jour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uto0"/>
          <p:cNvPicPr/>
          <p:nvPr/>
        </p:nvPicPr>
        <p:blipFill>
          <a:blip r:embed="rId1"/>
          <a:stretch/>
        </p:blipFill>
        <p:spPr>
          <a:xfrm>
            <a:off x="609480" y="685800"/>
            <a:ext cx="7777440" cy="54133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685800" y="762120"/>
            <a:ext cx="7696080" cy="5257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860880" y="487692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Jerusa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7698600" y="26668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nti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eleu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6782760" y="350532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ala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791680" y="358128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aph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250680" y="342900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CYPR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800600" y="1828800"/>
            <a:ext cx="70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isi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nti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4879080" y="26668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t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5261040" y="251460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er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6021720" y="228600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Ly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6479640" y="2514600"/>
            <a:ext cx="5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Der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4726800" y="243828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PISI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7696800" y="32004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Y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3584880" y="4343400"/>
            <a:ext cx="22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MEDITERRANEAN S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7775280" y="4952880"/>
            <a:ext cx="53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e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5793480" y="556272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6096960" y="20574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Ico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6708600" y="4648320"/>
            <a:ext cx="7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Caes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6632280" y="434340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tole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6936840" y="419112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y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6934320" y="403848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7087320" y="236232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ar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6"/>
          <p:cNvSpPr/>
          <p:nvPr/>
        </p:nvSpPr>
        <p:spPr>
          <a:xfrm>
            <a:off x="3735720" y="144792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ro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7"/>
          <p:cNvSpPr/>
          <p:nvPr/>
        </p:nvSpPr>
        <p:spPr>
          <a:xfrm>
            <a:off x="3125520" y="91440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Neapo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2591280" y="83808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hili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2514960" y="121932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poll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1679760" y="1219320"/>
            <a:ext cx="63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Bero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1600920" y="99072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hessalo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2"/>
          <p:cNvSpPr/>
          <p:nvPr/>
        </p:nvSpPr>
        <p:spPr>
          <a:xfrm>
            <a:off x="2896200" y="25146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t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3"/>
          <p:cNvSpPr/>
          <p:nvPr/>
        </p:nvSpPr>
        <p:spPr>
          <a:xfrm>
            <a:off x="1906200" y="243828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Corin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4"/>
          <p:cNvSpPr/>
          <p:nvPr/>
        </p:nvSpPr>
        <p:spPr>
          <a:xfrm>
            <a:off x="4190760" y="228600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Ephe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5"/>
          <p:cNvSpPr/>
          <p:nvPr/>
        </p:nvSpPr>
        <p:spPr>
          <a:xfrm>
            <a:off x="2235240" y="1015920"/>
            <a:ext cx="5537160" cy="4089600"/>
          </a:xfrm>
          <a:prstGeom prst="pie">
            <a:avLst/>
          </a:pr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6"/>
          <p:cNvSpPr/>
          <p:nvPr/>
        </p:nvSpPr>
        <p:spPr>
          <a:xfrm>
            <a:off x="8646480" y="0"/>
            <a:ext cx="49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OHP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6429240"/>
          <a:ext cx="7704000" cy="42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29240"/>
                    <a:ext cx="77040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0" name="Group 49"/>
          <p:cNvGrpSpPr/>
          <p:nvPr/>
        </p:nvGrpSpPr>
        <p:grpSpPr>
          <a:xfrm>
            <a:off x="0" y="0"/>
            <a:ext cx="2050920" cy="1701720"/>
            <a:chOff x="0" y="0"/>
            <a:chExt cx="2050920" cy="1701720"/>
          </a:xfrm>
        </p:grpSpPr>
        <p:graphicFrame>
          <p:nvGraphicFramePr>
            <p:cNvPr id="121" name=""/>
            <p:cNvGraphicFramePr/>
            <p:nvPr/>
          </p:nvGraphicFramePr>
          <p:xfrm>
            <a:off x="0" y="0"/>
            <a:ext cx="2050920" cy="1701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0"/>
                      <a:ext cx="2050920" cy="170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3" name="Picture 51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014120" cy="89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Group 52"/>
          <p:cNvGrpSpPr/>
          <p:nvPr/>
        </p:nvGrpSpPr>
        <p:grpSpPr>
          <a:xfrm>
            <a:off x="7236000" y="5445000"/>
            <a:ext cx="1908000" cy="1413000"/>
            <a:chOff x="7236000" y="5445000"/>
            <a:chExt cx="1908000" cy="1413000"/>
          </a:xfrm>
        </p:grpSpPr>
        <p:grpSp>
          <p:nvGrpSpPr>
            <p:cNvPr id="125" name="Group 53"/>
            <p:cNvGrpSpPr/>
            <p:nvPr/>
          </p:nvGrpSpPr>
          <p:grpSpPr>
            <a:xfrm>
              <a:off x="7236000" y="5445000"/>
              <a:ext cx="1908000" cy="1403640"/>
              <a:chOff x="7236000" y="5445000"/>
              <a:chExt cx="1908000" cy="1403640"/>
            </a:xfrm>
          </p:grpSpPr>
          <p:graphicFrame>
            <p:nvGraphicFramePr>
              <p:cNvPr id="126" name=""/>
              <p:cNvGraphicFramePr/>
              <p:nvPr/>
            </p:nvGraphicFramePr>
            <p:xfrm>
              <a:off x="7286760" y="5445000"/>
              <a:ext cx="1857240" cy="1403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2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286760" y="5445000"/>
                        <a:ext cx="1857240" cy="1403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28" name="Group 55"/>
              <p:cNvGrpSpPr/>
              <p:nvPr/>
            </p:nvGrpSpPr>
            <p:grpSpPr>
              <a:xfrm>
                <a:off x="7236000" y="6434280"/>
                <a:ext cx="775080" cy="329760"/>
                <a:chOff x="7236000" y="6434280"/>
                <a:chExt cx="775080" cy="329760"/>
              </a:xfrm>
            </p:grpSpPr>
            <p:pic>
              <p:nvPicPr>
                <p:cNvPr id="129" name="Picture 56" descr="signature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236000" y="6434280"/>
                  <a:ext cx="765360" cy="32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5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695000" y="6504840"/>
                  <a:ext cx="316080" cy="169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131" name="Picture 58" descr=""/>
            <p:cNvPicPr/>
            <p:nvPr/>
          </p:nvPicPr>
          <p:blipFill>
            <a:blip r:embed="rId11"/>
            <a:stretch/>
          </p:blipFill>
          <p:spPr>
            <a:xfrm>
              <a:off x="7899120" y="5915880"/>
              <a:ext cx="1153080" cy="94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436480" y="152280"/>
            <a:ext cx="41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aul’s Third Missionary Jour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auto0"/>
          <p:cNvPicPr/>
          <p:nvPr/>
        </p:nvPicPr>
        <p:blipFill>
          <a:blip r:embed="rId1"/>
          <a:stretch/>
        </p:blipFill>
        <p:spPr>
          <a:xfrm>
            <a:off x="609480" y="685800"/>
            <a:ext cx="7777440" cy="54133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685800" y="762120"/>
            <a:ext cx="7696080" cy="5257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860880" y="487692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Jerusa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7698600" y="26668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nti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eleu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6782760" y="350532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ala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5791680" y="358128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aph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6250680" y="342900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CYPR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4800600" y="1828800"/>
            <a:ext cx="70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isi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nti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4879080" y="26668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t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5261040" y="251460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er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6021720" y="228600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Ly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6479640" y="2514600"/>
            <a:ext cx="5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Der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4726800" y="243828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PISI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96800" y="32004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Y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3584880" y="4343400"/>
            <a:ext cx="22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MEDITERRANEAN S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7775280" y="4952880"/>
            <a:ext cx="53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e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5793480" y="556272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6096960" y="20574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Ico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6708600" y="4648320"/>
            <a:ext cx="7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Caes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6632280" y="434340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tole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6936840" y="419112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y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6934320" y="403848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7087320" y="236232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ar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3735720" y="144792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ro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3125520" y="91440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Neapo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2591280" y="83808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hili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2514960" y="121932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poll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1679760" y="1219320"/>
            <a:ext cx="63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Bero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1677240" y="106668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hessalo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2896200" y="25146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t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1906200" y="243828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Corin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4190760" y="228600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Ephe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2973960" y="373392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CR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6"/>
          <p:cNvSpPr/>
          <p:nvPr/>
        </p:nvSpPr>
        <p:spPr>
          <a:xfrm>
            <a:off x="3987720" y="2057400"/>
            <a:ext cx="3861000" cy="762120"/>
          </a:xfrm>
          <a:prstGeom prst="pie">
            <a:avLst/>
          </a:pr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7"/>
          <p:cNvSpPr/>
          <p:nvPr/>
        </p:nvSpPr>
        <p:spPr>
          <a:xfrm>
            <a:off x="2247840" y="1028880"/>
            <a:ext cx="5372280" cy="3924000"/>
          </a:xfrm>
          <a:prstGeom prst="pie">
            <a:avLst/>
          </a:pr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8"/>
          <p:cNvSpPr/>
          <p:nvPr/>
        </p:nvSpPr>
        <p:spPr>
          <a:xfrm>
            <a:off x="8646480" y="0"/>
            <a:ext cx="49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OHP 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6429240"/>
          <a:ext cx="7704000" cy="42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29240"/>
                    <a:ext cx="77040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Group 51"/>
          <p:cNvGrpSpPr/>
          <p:nvPr/>
        </p:nvGrpSpPr>
        <p:grpSpPr>
          <a:xfrm>
            <a:off x="0" y="0"/>
            <a:ext cx="2050920" cy="1701720"/>
            <a:chOff x="0" y="0"/>
            <a:chExt cx="2050920" cy="1701720"/>
          </a:xfrm>
        </p:grpSpPr>
        <p:graphicFrame>
          <p:nvGraphicFramePr>
            <p:cNvPr id="172" name=""/>
            <p:cNvGraphicFramePr/>
            <p:nvPr/>
          </p:nvGraphicFramePr>
          <p:xfrm>
            <a:off x="0" y="0"/>
            <a:ext cx="2050920" cy="1701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0"/>
                      <a:ext cx="2050920" cy="170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74" name="Picture 53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014120" cy="89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Group 54"/>
          <p:cNvGrpSpPr/>
          <p:nvPr/>
        </p:nvGrpSpPr>
        <p:grpSpPr>
          <a:xfrm>
            <a:off x="7236000" y="5445000"/>
            <a:ext cx="1908000" cy="1413000"/>
            <a:chOff x="7236000" y="5445000"/>
            <a:chExt cx="1908000" cy="1413000"/>
          </a:xfrm>
        </p:grpSpPr>
        <p:grpSp>
          <p:nvGrpSpPr>
            <p:cNvPr id="176" name="Group 55"/>
            <p:cNvGrpSpPr/>
            <p:nvPr/>
          </p:nvGrpSpPr>
          <p:grpSpPr>
            <a:xfrm>
              <a:off x="7236000" y="5445000"/>
              <a:ext cx="1908000" cy="1403640"/>
              <a:chOff x="7236000" y="5445000"/>
              <a:chExt cx="1908000" cy="1403640"/>
            </a:xfrm>
          </p:grpSpPr>
          <p:graphicFrame>
            <p:nvGraphicFramePr>
              <p:cNvPr id="177" name=""/>
              <p:cNvGraphicFramePr/>
              <p:nvPr/>
            </p:nvGraphicFramePr>
            <p:xfrm>
              <a:off x="7286760" y="5445000"/>
              <a:ext cx="1857240" cy="1403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286760" y="5445000"/>
                        <a:ext cx="1857240" cy="1403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79" name="Group 57"/>
              <p:cNvGrpSpPr/>
              <p:nvPr/>
            </p:nvGrpSpPr>
            <p:grpSpPr>
              <a:xfrm>
                <a:off x="7236000" y="6434280"/>
                <a:ext cx="775080" cy="329760"/>
                <a:chOff x="7236000" y="6434280"/>
                <a:chExt cx="775080" cy="329760"/>
              </a:xfrm>
            </p:grpSpPr>
            <p:pic>
              <p:nvPicPr>
                <p:cNvPr id="180" name="Picture 58" descr="signature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236000" y="6434280"/>
                  <a:ext cx="765360" cy="32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5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695000" y="6504840"/>
                  <a:ext cx="316080" cy="169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182" name="Picture 60" descr=""/>
            <p:cNvPicPr/>
            <p:nvPr/>
          </p:nvPicPr>
          <p:blipFill>
            <a:blip r:embed="rId11"/>
            <a:stretch/>
          </p:blipFill>
          <p:spPr>
            <a:xfrm>
              <a:off x="7899120" y="5915880"/>
              <a:ext cx="1153080" cy="94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2171880" y="9360"/>
            <a:ext cx="4870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Times New Roman"/>
              </a:rPr>
              <a:t>The Letters of Pa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Times New Roman"/>
              </a:rPr>
              <a:t>Letters written by P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8646480" y="0"/>
            <a:ext cx="49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OHP 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533520" y="2743200"/>
            <a:ext cx="80769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152388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35268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64832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617220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533520" y="281952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50/51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982160" y="28195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54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3810960" y="28195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55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4876920" y="281952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56/57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7010280" y="281952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57/58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 rot="16200000">
            <a:off x="-77400" y="43444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1 Thessalon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 rot="16200000">
            <a:off x="1391400" y="39420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alat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 rot="16200000">
            <a:off x="1903680" y="419184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1 Corinth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 rot="16200000">
            <a:off x="3198960" y="419184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2 Corinth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 rot="16200000">
            <a:off x="4431240" y="39506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hile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 rot="16200000">
            <a:off x="6157800" y="405180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hilipp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0"/>
          <p:cNvSpPr/>
          <p:nvPr/>
        </p:nvSpPr>
        <p:spPr>
          <a:xfrm rot="16200000">
            <a:off x="7488360" y="3866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o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456840" y="20574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ori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980720" y="20574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3"/>
          <p:cNvSpPr/>
          <p:nvPr/>
        </p:nvSpPr>
        <p:spPr>
          <a:xfrm>
            <a:off x="834840" y="1197000"/>
            <a:ext cx="321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600" spc="-1" strike="noStrike">
                <a:solidFill>
                  <a:srgbClr val="000000"/>
                </a:solidFill>
                <a:latin typeface="Times New Roman"/>
              </a:rPr>
              <a:t>Place where the Letters were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4"/>
          <p:cNvSpPr/>
          <p:nvPr/>
        </p:nvSpPr>
        <p:spPr>
          <a:xfrm>
            <a:off x="461160" y="56386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600" spc="-1" strike="noStrike">
                <a:solidFill>
                  <a:srgbClr val="000000"/>
                </a:solidFill>
                <a:latin typeface="Times New Roman"/>
              </a:rPr>
              <a:t>Paul’s own Let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3352320" y="1752480"/>
            <a:ext cx="137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Macedo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Illyric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6400440" y="20574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7"/>
          <p:cNvSpPr/>
          <p:nvPr/>
        </p:nvSpPr>
        <p:spPr>
          <a:xfrm>
            <a:off x="4800240" y="20574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8"/>
          <p:cNvSpPr/>
          <p:nvPr/>
        </p:nvSpPr>
        <p:spPr>
          <a:xfrm>
            <a:off x="7619760" y="20574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ori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0" y="6429240"/>
          <a:ext cx="7704000" cy="42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29240"/>
                    <a:ext cx="77040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Group 41"/>
          <p:cNvGrpSpPr/>
          <p:nvPr/>
        </p:nvGrpSpPr>
        <p:grpSpPr>
          <a:xfrm>
            <a:off x="0" y="0"/>
            <a:ext cx="2050920" cy="1701720"/>
            <a:chOff x="0" y="0"/>
            <a:chExt cx="2050920" cy="1701720"/>
          </a:xfrm>
        </p:grpSpPr>
        <p:graphicFrame>
          <p:nvGraphicFramePr>
            <p:cNvPr id="213" name=""/>
            <p:cNvGraphicFramePr/>
            <p:nvPr/>
          </p:nvGraphicFramePr>
          <p:xfrm>
            <a:off x="0" y="0"/>
            <a:ext cx="2050920" cy="1701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0"/>
                      <a:ext cx="2050920" cy="170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15" name="Picture 43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14120" cy="89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44"/>
          <p:cNvGrpSpPr/>
          <p:nvPr/>
        </p:nvGrpSpPr>
        <p:grpSpPr>
          <a:xfrm>
            <a:off x="7236000" y="5445000"/>
            <a:ext cx="1908000" cy="1413000"/>
            <a:chOff x="7236000" y="5445000"/>
            <a:chExt cx="1908000" cy="1413000"/>
          </a:xfrm>
        </p:grpSpPr>
        <p:grpSp>
          <p:nvGrpSpPr>
            <p:cNvPr id="217" name="Group 45"/>
            <p:cNvGrpSpPr/>
            <p:nvPr/>
          </p:nvGrpSpPr>
          <p:grpSpPr>
            <a:xfrm>
              <a:off x="7236000" y="5445000"/>
              <a:ext cx="1908000" cy="1403640"/>
              <a:chOff x="7236000" y="5445000"/>
              <a:chExt cx="1908000" cy="1403640"/>
            </a:xfrm>
          </p:grpSpPr>
          <p:graphicFrame>
            <p:nvGraphicFramePr>
              <p:cNvPr id="218" name=""/>
              <p:cNvGraphicFramePr/>
              <p:nvPr/>
            </p:nvGraphicFramePr>
            <p:xfrm>
              <a:off x="7286760" y="5445000"/>
              <a:ext cx="1857240" cy="140364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219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7286760" y="5445000"/>
                        <a:ext cx="1857240" cy="1403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20" name="Group 47"/>
              <p:cNvGrpSpPr/>
              <p:nvPr/>
            </p:nvGrpSpPr>
            <p:grpSpPr>
              <a:xfrm>
                <a:off x="7236000" y="6434280"/>
                <a:ext cx="775080" cy="329760"/>
                <a:chOff x="7236000" y="6434280"/>
                <a:chExt cx="775080" cy="329760"/>
              </a:xfrm>
            </p:grpSpPr>
            <p:pic>
              <p:nvPicPr>
                <p:cNvPr id="221" name="Picture 48" descr="signature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236000" y="6434280"/>
                  <a:ext cx="765360" cy="32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Picture 49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695000" y="6504840"/>
                  <a:ext cx="316080" cy="169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223" name="Picture 50" descr=""/>
            <p:cNvPicPr/>
            <p:nvPr/>
          </p:nvPicPr>
          <p:blipFill>
            <a:blip r:embed="rId10"/>
            <a:stretch/>
          </p:blipFill>
          <p:spPr>
            <a:xfrm>
              <a:off x="7899120" y="5915880"/>
              <a:ext cx="1153080" cy="94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171880" y="9360"/>
            <a:ext cx="4870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Times New Roman"/>
              </a:rPr>
              <a:t>The Letters of Pa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Times New Roman"/>
              </a:rPr>
              <a:t>Letters attributed to P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8646480" y="0"/>
            <a:ext cx="49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OHP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533520" y="2743200"/>
            <a:ext cx="80769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>
            <a:off x="2590920" y="16002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449568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>
            <a:off x="617220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610560" y="28195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70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744280" y="28195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80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4573080" y="28195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90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6248880" y="2819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100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1142640" y="20574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979200" y="1268280"/>
            <a:ext cx="321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600" spc="-1" strike="noStrike">
                <a:solidFill>
                  <a:srgbClr val="000000"/>
                </a:solidFill>
                <a:latin typeface="Times New Roman"/>
              </a:rPr>
              <a:t>Place where the Letters were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461880" y="563868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600" spc="-1" strike="noStrike">
                <a:solidFill>
                  <a:srgbClr val="000000"/>
                </a:solidFill>
                <a:latin typeface="Times New Roman"/>
              </a:rPr>
              <a:t>Letters ascribed to Pa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2971440" y="20574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 rot="16200000">
            <a:off x="849600" y="433224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loss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582000" y="35053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phes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 rot="16200000">
            <a:off x="4265640" y="464904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2 Thessalon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"/>
          <p:cNvSpPr/>
          <p:nvPr/>
        </p:nvSpPr>
        <p:spPr>
          <a:xfrm rot="16200000">
            <a:off x="6149880" y="3984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i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 rot="16200000">
            <a:off x="6357240" y="43095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1 Timo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1"/>
          <p:cNvSpPr/>
          <p:nvPr/>
        </p:nvSpPr>
        <p:spPr>
          <a:xfrm rot="16200000">
            <a:off x="7043040" y="43095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2 Timo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2819520" y="3733920"/>
            <a:ext cx="761760" cy="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5029200" y="3733920"/>
            <a:ext cx="990720" cy="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4799520" y="205740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Asia Mi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5"/>
          <p:cNvSpPr/>
          <p:nvPr/>
        </p:nvSpPr>
        <p:spPr>
          <a:xfrm>
            <a:off x="6704640" y="205740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Asia Mi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6429240"/>
          <a:ext cx="7704000" cy="42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29240"/>
                    <a:ext cx="77040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Group 39"/>
          <p:cNvGrpSpPr/>
          <p:nvPr/>
        </p:nvGrpSpPr>
        <p:grpSpPr>
          <a:xfrm>
            <a:off x="0" y="0"/>
            <a:ext cx="2050920" cy="1701720"/>
            <a:chOff x="0" y="0"/>
            <a:chExt cx="2050920" cy="1701720"/>
          </a:xfrm>
        </p:grpSpPr>
        <p:graphicFrame>
          <p:nvGraphicFramePr>
            <p:cNvPr id="251" name=""/>
            <p:cNvGraphicFramePr/>
            <p:nvPr/>
          </p:nvGraphicFramePr>
          <p:xfrm>
            <a:off x="0" y="0"/>
            <a:ext cx="2050920" cy="1701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0"/>
                      <a:ext cx="2050920" cy="170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53" name="Picture 4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14120" cy="89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4" name="Group 42"/>
          <p:cNvGrpSpPr/>
          <p:nvPr/>
        </p:nvGrpSpPr>
        <p:grpSpPr>
          <a:xfrm>
            <a:off x="7236000" y="5445000"/>
            <a:ext cx="1908000" cy="1413000"/>
            <a:chOff x="7236000" y="5445000"/>
            <a:chExt cx="1908000" cy="1413000"/>
          </a:xfrm>
        </p:grpSpPr>
        <p:grpSp>
          <p:nvGrpSpPr>
            <p:cNvPr id="255" name="Group 43"/>
            <p:cNvGrpSpPr/>
            <p:nvPr/>
          </p:nvGrpSpPr>
          <p:grpSpPr>
            <a:xfrm>
              <a:off x="7236000" y="5445000"/>
              <a:ext cx="1908000" cy="1403640"/>
              <a:chOff x="7236000" y="5445000"/>
              <a:chExt cx="1908000" cy="1403640"/>
            </a:xfrm>
          </p:grpSpPr>
          <p:graphicFrame>
            <p:nvGraphicFramePr>
              <p:cNvPr id="256" name=""/>
              <p:cNvGraphicFramePr/>
              <p:nvPr/>
            </p:nvGraphicFramePr>
            <p:xfrm>
              <a:off x="7286760" y="5445000"/>
              <a:ext cx="1857240" cy="140364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257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7286760" y="5445000"/>
                        <a:ext cx="1857240" cy="1403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58" name="Group 45"/>
              <p:cNvGrpSpPr/>
              <p:nvPr/>
            </p:nvGrpSpPr>
            <p:grpSpPr>
              <a:xfrm>
                <a:off x="7236000" y="6434280"/>
                <a:ext cx="775080" cy="329760"/>
                <a:chOff x="7236000" y="6434280"/>
                <a:chExt cx="775080" cy="329760"/>
              </a:xfrm>
            </p:grpSpPr>
            <p:pic>
              <p:nvPicPr>
                <p:cNvPr id="259" name="Picture 46" descr="signature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236000" y="6434280"/>
                  <a:ext cx="765360" cy="32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47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695000" y="6504840"/>
                  <a:ext cx="316080" cy="169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261" name="Picture 48" descr=""/>
            <p:cNvPicPr/>
            <p:nvPr/>
          </p:nvPicPr>
          <p:blipFill>
            <a:blip r:embed="rId10"/>
            <a:stretch/>
          </p:blipFill>
          <p:spPr>
            <a:xfrm>
              <a:off x="7899120" y="5915880"/>
              <a:ext cx="1153080" cy="94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03:52:50Z</dcterms:created>
  <dc:creator>Trish Bartlett</dc:creator>
  <dc:description/>
  <dc:language>en-US</dc:language>
  <cp:lastModifiedBy>Michael Pate User</cp:lastModifiedBy>
  <dcterms:modified xsi:type="dcterms:W3CDTF">2009-03-08T03:06:59Z</dcterms:modified>
  <cp:revision>7</cp:revision>
  <dc:subject/>
  <dc:title>Slide 1</dc:title>
</cp:coreProperties>
</file>