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7A2-A61C-4BAC-8574-3BFBF870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C26-AFB2-4068-AA71-469D13CC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70B-F296-4081-9805-6CD4CB4C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54D-C0F6-4269-B8D0-65DC2897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CDD-3573-4EF4-AC20-7C56CA25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A2F-C14E-4D82-8F5F-B18E5D90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FE4-B30E-4DD6-A714-57D8309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C69-D218-4601-ABA0-A8FA3AC5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79F-96CE-4763-9B4B-3E7DD535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18A-CEB1-46B4-923D-26F45546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0D6-3E91-4C4A-A9A2-CCC23D0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4E5-0C3D-494B-AB46-C5220246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70F-7B53-440E-B1E5-9E829026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01720" y="1197000"/>
            <a:ext cx="532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book2"/>
          <p:cNvPicPr/>
          <p:nvPr/>
        </p:nvPicPr>
        <p:blipFill>
          <a:blip r:embed="rId1"/>
          <a:stretch/>
        </p:blipFill>
        <p:spPr>
          <a:xfrm>
            <a:off x="7667640" y="260280"/>
            <a:ext cx="1123920" cy="177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lectern"/>
          <p:cNvPicPr/>
          <p:nvPr/>
        </p:nvPicPr>
        <p:blipFill>
          <a:blip r:embed="rId2"/>
          <a:stretch/>
        </p:blipFill>
        <p:spPr>
          <a:xfrm>
            <a:off x="3348000" y="2421000"/>
            <a:ext cx="2387520" cy="2268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ook2"/>
          <p:cNvPicPr/>
          <p:nvPr/>
        </p:nvPicPr>
        <p:blipFill>
          <a:blip r:embed="rId3"/>
          <a:stretch/>
        </p:blipFill>
        <p:spPr>
          <a:xfrm>
            <a:off x="7885080" y="472428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book2"/>
          <p:cNvPicPr/>
          <p:nvPr/>
        </p:nvPicPr>
        <p:blipFill>
          <a:blip r:embed="rId4"/>
          <a:stretch/>
        </p:blipFill>
        <p:spPr>
          <a:xfrm>
            <a:off x="250920" y="494172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ok2"/>
          <p:cNvPicPr/>
          <p:nvPr/>
        </p:nvPicPr>
        <p:blipFill>
          <a:blip r:embed="rId5"/>
          <a:stretch/>
        </p:blipFill>
        <p:spPr>
          <a:xfrm>
            <a:off x="108000" y="189000"/>
            <a:ext cx="1123920" cy="1771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692360" y="15573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3352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4648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424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0/51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9825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4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8113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5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487764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6/57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7011000" y="28162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7/58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 rot="16200000">
            <a:off x="-207720" y="421056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 rot="16200000">
            <a:off x="1323720" y="38725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ala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 rot="16200000">
            <a:off x="1831680" y="4115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 rot="16200000">
            <a:off x="3127320" y="411552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 rot="16200000">
            <a:off x="4380480" y="38959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 rot="16200000">
            <a:off x="6108840" y="399816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ilipp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 rot="16200000">
            <a:off x="7419240" y="3797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468720" y="206064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198108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183240" y="11253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lace where the Letters we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3292200" y="1749600"/>
            <a:ext cx="149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ced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lly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64008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48006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7620480" y="20541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31"/>
          <p:cNvSpPr/>
          <p:nvPr/>
        </p:nvSpPr>
        <p:spPr>
          <a:xfrm>
            <a:off x="2411280" y="0"/>
            <a:ext cx="41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Letters written by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519120" y="5681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aul’s own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305080" y="20304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Letters attributed to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59092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4495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61092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74464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8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573440" y="2816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9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249600" y="2816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0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1430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232560" y="11937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Place where the Letters were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971800" y="205416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 rot="16200000">
            <a:off x="763920" y="424584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lo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85600" y="35035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phe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 rot="16200000">
            <a:off x="4135320" y="45133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 rot="16200000">
            <a:off x="6132600" y="3967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 rot="16200000">
            <a:off x="6327000" y="4278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 rot="16200000">
            <a:off x="7012800" y="42789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2"/>
          <p:cNvSpPr/>
          <p:nvPr/>
        </p:nvSpPr>
        <p:spPr>
          <a:xfrm flipH="1">
            <a:off x="2843280" y="3573360"/>
            <a:ext cx="7617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3"/>
          <p:cNvSpPr/>
          <p:nvPr/>
        </p:nvSpPr>
        <p:spPr>
          <a:xfrm>
            <a:off x="5148360" y="3573360"/>
            <a:ext cx="9903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800960" y="205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6706080" y="20541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9"/>
          <p:cNvSpPr/>
          <p:nvPr/>
        </p:nvSpPr>
        <p:spPr>
          <a:xfrm>
            <a:off x="519120" y="5681520"/>
            <a:ext cx="28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333399"/>
                </a:solidFill>
                <a:latin typeface="Arial"/>
              </a:rPr>
              <a:t>Letters ascribed to Pa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6692760"/>
          <a:ext cx="5969160" cy="33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92760"/>
                    <a:ext cx="59691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6"/>
          <p:cNvSpPr/>
          <p:nvPr/>
        </p:nvSpPr>
        <p:spPr>
          <a:xfrm>
            <a:off x="826920" y="836640"/>
            <a:ext cx="62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ul's letters follow the common style of th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763640" y="2492280"/>
            <a:ext cx="58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pen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anks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in body of the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333399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Doctrinal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333399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inal Sal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book2"/>
          <p:cNvPicPr/>
          <p:nvPr/>
        </p:nvPicPr>
        <p:blipFill>
          <a:blip r:embed="rId3"/>
          <a:stretch/>
        </p:blipFill>
        <p:spPr>
          <a:xfrm>
            <a:off x="7667640" y="260280"/>
            <a:ext cx="1123920" cy="1771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ook2"/>
          <p:cNvPicPr/>
          <p:nvPr/>
        </p:nvPicPr>
        <p:blipFill>
          <a:blip r:embed="rId4"/>
          <a:stretch/>
        </p:blipFill>
        <p:spPr>
          <a:xfrm>
            <a:off x="7885080" y="4724280"/>
            <a:ext cx="112392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book2"/>
          <p:cNvPicPr/>
          <p:nvPr/>
        </p:nvPicPr>
        <p:blipFill>
          <a:blip r:embed="rId5"/>
          <a:stretch/>
        </p:blipFill>
        <p:spPr>
          <a:xfrm>
            <a:off x="7812000" y="2349360"/>
            <a:ext cx="1123920" cy="1771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03:39:44Z</dcterms:created>
  <dc:creator>Trish Bartlett</dc:creator>
  <dc:description/>
  <dc:language>en-US</dc:language>
  <cp:lastModifiedBy>Michael Pate User</cp:lastModifiedBy>
  <dcterms:modified xsi:type="dcterms:W3CDTF">2009-03-08T03:03:47Z</dcterms:modified>
  <cp:revision>7</cp:revision>
  <dc:subject/>
  <dc:title>Slide 1</dc:title>
</cp:coreProperties>
</file>