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DAD-80A7-4107-8190-717219F2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6EE-0FEE-4A14-B9F9-C1E9442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26B-1271-4F0B-A60D-DD60A5B8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9AB-427F-4202-8E8E-656639F8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6E5-AD84-4E79-9BB3-E9A4236A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603-0AF0-4737-9EE3-01366021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3E2-8318-4516-B789-854ACEC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33B-3CBF-4085-BD91-CBE0003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C12-8EBE-456F-988C-2B95F24F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2F5-0FF1-4CE5-8DC8-5AC9958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6A4-0F50-4B30-9152-EC5BA76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7C0-28C8-4324-A030-014F794F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02E5-D8D4-4E93-8AD1-0B105B4F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 flipH="1">
            <a:off x="6858000" y="2895480"/>
            <a:ext cx="838080" cy="6858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 flipH="1">
            <a:off x="6248160" y="3581280"/>
            <a:ext cx="609480" cy="763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1"/>
          <p:cNvSpPr/>
          <p:nvPr/>
        </p:nvSpPr>
        <p:spPr>
          <a:xfrm flipH="1" flipV="1">
            <a:off x="5486040" y="2895120"/>
            <a:ext cx="685800" cy="7621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5562720" y="2057400"/>
            <a:ext cx="88920" cy="77472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4"/>
          <p:cNvSpPr/>
          <p:nvPr/>
        </p:nvSpPr>
        <p:spPr>
          <a:xfrm>
            <a:off x="5638680" y="2057400"/>
            <a:ext cx="381240" cy="22860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5943600" y="2286000"/>
            <a:ext cx="0" cy="152280"/>
          </a:xfrm>
          <a:prstGeom prst="line">
            <a:avLst/>
          </a:prstGeom>
          <a:ln w="5724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6019920" y="2514600"/>
            <a:ext cx="457200" cy="763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2436480" y="15228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First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8"/>
          <p:cNvSpPr/>
          <p:nvPr/>
        </p:nvSpPr>
        <p:spPr>
          <a:xfrm>
            <a:off x="5435640" y="2133720"/>
            <a:ext cx="2171520" cy="109224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Group 3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72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4" name="Picture 3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3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76" name="Group 3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77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9" name="Group 3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80" name="Picture 38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82" name="Picture 40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436840" y="15228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Second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6708600" y="46483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aes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632280" y="434340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tole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6936840" y="41911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6934320" y="40384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7087320" y="236232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r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"/>
          <p:cNvSpPr/>
          <p:nvPr/>
        </p:nvSpPr>
        <p:spPr>
          <a:xfrm>
            <a:off x="3735720" y="14479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125520" y="914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Neapo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2591280" y="8380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514960" y="1219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poll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1679760" y="121932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ero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1600920" y="99072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ssal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2896200" y="2514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1906200" y="24382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4"/>
          <p:cNvSpPr/>
          <p:nvPr/>
        </p:nvSpPr>
        <p:spPr>
          <a:xfrm>
            <a:off x="4190760" y="2286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5"/>
          <p:cNvSpPr/>
          <p:nvPr/>
        </p:nvSpPr>
        <p:spPr>
          <a:xfrm>
            <a:off x="2235240" y="1015920"/>
            <a:ext cx="5537160" cy="408960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6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49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121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3" name="Picture 51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52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125" name="Group 53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28" name="Group 55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129" name="Picture 56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5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31" name="Picture 58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436480" y="15228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aul’s Third Missionary Jour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uto0"/>
          <p:cNvPicPr/>
          <p:nvPr/>
        </p:nvPicPr>
        <p:blipFill>
          <a:blip r:embed="rId1"/>
          <a:stretch/>
        </p:blipFill>
        <p:spPr>
          <a:xfrm>
            <a:off x="609480" y="685800"/>
            <a:ext cx="7777440" cy="54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685800" y="762120"/>
            <a:ext cx="7696080" cy="5257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860880" y="4876920"/>
            <a:ext cx="84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Jerusa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698600" y="26668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eleu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6782760" y="35053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ala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791680" y="358128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aph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250680" y="342900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800600" y="1828800"/>
            <a:ext cx="7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isi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ntio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879080" y="2666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t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261040" y="251460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er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021720" y="228600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y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479640" y="251460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De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726800" y="24382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PISI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96800" y="32004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Y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584880" y="4343400"/>
            <a:ext cx="22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Times New Roman"/>
              </a:rPr>
              <a:t>MEDITERRANE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7775280" y="495288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De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793480" y="5562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096960" y="20574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Ico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708600" y="4648320"/>
            <a:ext cx="77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aes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632280" y="434340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tolem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936840" y="41911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34320" y="40384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Si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7087320" y="236232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ar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735720" y="144792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3125520" y="9144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Neapo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2591280" y="83808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14960" y="1219320"/>
            <a:ext cx="81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poll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679760" y="121932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ero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1677240" y="106668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ssalo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896200" y="251460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t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1906200" y="243828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190760" y="2286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2973960" y="373392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CR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6"/>
          <p:cNvSpPr/>
          <p:nvPr/>
        </p:nvSpPr>
        <p:spPr>
          <a:xfrm>
            <a:off x="3987720" y="2057400"/>
            <a:ext cx="3861000" cy="76212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7"/>
          <p:cNvSpPr/>
          <p:nvPr/>
        </p:nvSpPr>
        <p:spPr>
          <a:xfrm>
            <a:off x="2247840" y="1028880"/>
            <a:ext cx="5372280" cy="392400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Group 5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172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4" name="Picture 53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Group 5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176" name="Group 5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177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79" name="Group 5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180" name="Picture 58" descr="signature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5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82" name="Picture 60" descr=""/>
            <p:cNvPicPr/>
            <p:nvPr/>
          </p:nvPicPr>
          <p:blipFill>
            <a:blip r:embed="rId11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171880" y="9360"/>
            <a:ext cx="487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Letters written by 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15238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352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64832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53352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0/51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821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4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8109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5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87692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6/57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7010280" y="281952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7/58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 rot="16200000">
            <a:off x="-77400" y="43444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 rot="16200000">
            <a:off x="1391400" y="394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alat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 rot="16200000">
            <a:off x="1903680" y="41918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 rot="16200000">
            <a:off x="3198960" y="419184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Corint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 rot="16200000">
            <a:off x="4431240" y="3950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 rot="16200000">
            <a:off x="6157800" y="40518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hilipp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0"/>
          <p:cNvSpPr/>
          <p:nvPr/>
        </p:nvSpPr>
        <p:spPr>
          <a:xfrm rot="16200000">
            <a:off x="7488360" y="3866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o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45684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98072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834840" y="119700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lace where the Letters we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61160" y="56386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aul’s own Le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3352320" y="1752480"/>
            <a:ext cx="13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aced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llyric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64004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48002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7619760" y="20574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ori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41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213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5" name="Picture 43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44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217" name="Group 45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218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20" name="Group 47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221" name="Picture 48" descr="signatur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Picture 4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23" name="Picture 50" descr=""/>
            <p:cNvPicPr/>
            <p:nvPr/>
          </p:nvPicPr>
          <p:blipFill>
            <a:blip r:embed="rId10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171880" y="9360"/>
            <a:ext cx="4870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Times New Roman"/>
              </a:rPr>
              <a:t>The Letters of Pau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Letters attributed to P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646480" y="0"/>
            <a:ext cx="4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OHP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533520" y="2743200"/>
            <a:ext cx="8076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2590920" y="1600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449568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>
            <a:off x="6172200" y="1523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1056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7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74428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8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4573080" y="28195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9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6248880" y="2819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100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1426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979200" y="1268280"/>
            <a:ext cx="32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Place where the Letters we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461880" y="563868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Letters ascribed to Pa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971440" y="20574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Eph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 rot="16200000">
            <a:off x="849600" y="43322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olos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582000" y="35053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phes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 rot="16200000">
            <a:off x="4265640" y="464904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Thessalon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 rot="16200000">
            <a:off x="6149880" y="3984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 rot="16200000">
            <a:off x="6357240" y="430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 rot="16200000">
            <a:off x="7043040" y="430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2 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2819520" y="3733920"/>
            <a:ext cx="76176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5029200" y="3733920"/>
            <a:ext cx="990720" cy="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4799520" y="205740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04640" y="205740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sia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6429240"/>
          <a:ext cx="7704000" cy="4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29240"/>
                    <a:ext cx="7704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Group 39"/>
          <p:cNvGrpSpPr/>
          <p:nvPr/>
        </p:nvGrpSpPr>
        <p:grpSpPr>
          <a:xfrm>
            <a:off x="0" y="0"/>
            <a:ext cx="2050920" cy="1701720"/>
            <a:chOff x="0" y="0"/>
            <a:chExt cx="2050920" cy="1701720"/>
          </a:xfrm>
        </p:grpSpPr>
        <p:graphicFrame>
          <p:nvGraphicFramePr>
            <p:cNvPr id="251" name=""/>
            <p:cNvGraphicFramePr/>
            <p:nvPr/>
          </p:nvGraphicFramePr>
          <p:xfrm>
            <a:off x="0" y="0"/>
            <a:ext cx="2050920" cy="170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2050920" cy="170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53" name="Picture 4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14120" cy="89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42"/>
          <p:cNvGrpSpPr/>
          <p:nvPr/>
        </p:nvGrpSpPr>
        <p:grpSpPr>
          <a:xfrm>
            <a:off x="7236000" y="5445000"/>
            <a:ext cx="1908000" cy="1413000"/>
            <a:chOff x="7236000" y="5445000"/>
            <a:chExt cx="1908000" cy="1413000"/>
          </a:xfrm>
        </p:grpSpPr>
        <p:grpSp>
          <p:nvGrpSpPr>
            <p:cNvPr id="255" name="Group 43"/>
            <p:cNvGrpSpPr/>
            <p:nvPr/>
          </p:nvGrpSpPr>
          <p:grpSpPr>
            <a:xfrm>
              <a:off x="7236000" y="5445000"/>
              <a:ext cx="1908000" cy="1403640"/>
              <a:chOff x="7236000" y="5445000"/>
              <a:chExt cx="1908000" cy="1403640"/>
            </a:xfrm>
          </p:grpSpPr>
          <p:graphicFrame>
            <p:nvGraphicFramePr>
              <p:cNvPr id="256" name=""/>
              <p:cNvGraphicFramePr/>
              <p:nvPr/>
            </p:nvGraphicFramePr>
            <p:xfrm>
              <a:off x="7286760" y="5445000"/>
              <a:ext cx="1857240" cy="14036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86760" y="5445000"/>
                        <a:ext cx="1857240" cy="140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8" name="Group 45"/>
              <p:cNvGrpSpPr/>
              <p:nvPr/>
            </p:nvGrpSpPr>
            <p:grpSpPr>
              <a:xfrm>
                <a:off x="7236000" y="6434280"/>
                <a:ext cx="775080" cy="329760"/>
                <a:chOff x="7236000" y="6434280"/>
                <a:chExt cx="775080" cy="329760"/>
              </a:xfrm>
            </p:grpSpPr>
            <p:pic>
              <p:nvPicPr>
                <p:cNvPr id="259" name="Picture 46" descr="signature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236000" y="6434280"/>
                  <a:ext cx="765360" cy="32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47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695000" y="6504840"/>
                  <a:ext cx="316080" cy="16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61" name="Picture 48" descr=""/>
            <p:cNvPicPr/>
            <p:nvPr/>
          </p:nvPicPr>
          <p:blipFill>
            <a:blip r:embed="rId10"/>
            <a:stretch/>
          </p:blipFill>
          <p:spPr>
            <a:xfrm>
              <a:off x="7899120" y="5915880"/>
              <a:ext cx="1153080" cy="94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3:52:50Z</dcterms:created>
  <dc:creator>Trish Bartlett</dc:creator>
  <dc:description/>
  <dc:language>en-US</dc:language>
  <cp:lastModifiedBy>Michael Pate User</cp:lastModifiedBy>
  <dcterms:modified xsi:type="dcterms:W3CDTF">2009-03-08T03:06:59Z</dcterms:modified>
  <cp:revision>7</cp:revision>
  <dc:subject/>
  <dc:title>Slide 1</dc:title>
</cp:coreProperties>
</file>