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C3BF-1DE3-4137-9DD2-4EC9EA463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B92C-3AF7-438D-97F4-F22D14FD8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0554-D78A-4C73-BCFA-E166B7398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3F83-2582-4BCB-91B3-E16453F9E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7C520-E0FE-484B-BCD3-B0E3A5337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E13AA-59F4-419B-9680-EEB006BB9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96565-B912-4297-B6F6-43C0A1FCE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235E0-4F0D-4CED-A41B-44FB14E96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EC5A9-3489-4695-BD8E-638F1E522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454C5-A628-4FC3-BAF9-097F9A053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9AA81-0FF7-4B66-B937-34B12C65E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634C-AB1A-4EF4-9169-9B216B971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01773-DDB5-4D8F-9B46-CC5AF5A54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70E7F-9E82-4465-8768-DAC7C7003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61426-6DD3-4631-8E43-E2993E2A9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2C800-E093-403E-BA89-363AFF4A9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AE15E-A267-43A7-AF54-678F48E98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DC12-F30F-43F5-B0E4-D4424D397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86D1-12D3-4233-97AB-D0E21AAC7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16B7-4B60-4AE0-A96D-2EC2ABF52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D33E-DE2D-4AF5-8711-4D2EC5470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AA7D-66B3-43CB-999F-ADE894DF9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EEC2-61B7-4461-8A0B-9AEFCC541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36E4-5245-4DEB-8E74-777C66231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3C9F8-93B2-4C34-940E-2CF01DC66E5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095E4-CCDE-4287-93DA-2828960C71E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Paul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51280" y="476280"/>
            <a:ext cx="4968720" cy="58323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966800" y="6643800"/>
            <a:ext cx="1189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" spc="-1" strike="noStrike">
                <a:solidFill>
                  <a:srgbClr val="ffffff"/>
                </a:solidFill>
                <a:latin typeface="Tahoma"/>
              </a:rPr>
              <a:t>©</a:t>
            </a:r>
            <a:r>
              <a:rPr b="0" lang="en-AU" sz="800" spc="-1" strike="noStrike">
                <a:solidFill>
                  <a:srgbClr val="ffffff"/>
                </a:solidFill>
                <a:latin typeface="Tahoma"/>
              </a:rPr>
              <a:t> Karen Devine 2008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Paul and Christian Ritual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0" y="1484280"/>
            <a:ext cx="43257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Paul’s uniting message is inclusive of women and they played a prominent leadership role in the early Christian Church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Paul added rituals which are still used today including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000" spc="-1" strike="noStrike">
                <a:solidFill>
                  <a:srgbClr val="ffffff"/>
                </a:solidFill>
                <a:latin typeface="Tahoma"/>
              </a:rPr>
              <a:t>Baptism </a:t>
            </a: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- Immersion in water symbolised death in Jesus and coming out of the water symbolised resurrectio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000" spc="-1" strike="noStrike">
                <a:solidFill>
                  <a:srgbClr val="ffffff"/>
                </a:solidFill>
                <a:latin typeface="Tahoma"/>
              </a:rPr>
              <a:t>Church meetings</a:t>
            </a: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 met in honour of Jesus’ resurrection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000" spc="-1" strike="noStrike">
                <a:solidFill>
                  <a:srgbClr val="ffffff"/>
                </a:solidFill>
                <a:latin typeface="Tahoma"/>
              </a:rPr>
              <a:t>A communal meal</a:t>
            </a: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 which Paul called “the Lord’s Supper”. It consisted of bread and wine and was in commemoration of the death of Jesu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4356000" cy="5229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Paul vs Peter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9280" y="1981080"/>
            <a:ext cx="807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In the early Christian Communities most of the first Christians were Jew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But what if a person was a gentile and wanted to be a Christian, did they have to become a Jew firs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Peter and Paul had differing opin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Paul’s view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24360" y="1483920"/>
            <a:ext cx="49687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One could become Christian without being a Jew first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Gentiles were not bound by the Jewish food law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Gentiles were not bound to keep feast day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Gentile men did not have to be circumcise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Sacrifice through temple was no longer neede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Paul’s resolution of these issues effectively separated Judaism from Christianity permanently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Paul largely preached to gentiles.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et_paul" descr=""/>
          <p:cNvPicPr/>
          <p:nvPr/>
        </p:nvPicPr>
        <p:blipFill>
          <a:blip r:embed="rId1"/>
          <a:stretch/>
        </p:blipFill>
        <p:spPr>
          <a:xfrm>
            <a:off x="0" y="1557360"/>
            <a:ext cx="3708360" cy="5300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Peter’s view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284360" y="1557000"/>
            <a:ext cx="4608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Peter, James and John were the Jerusalem “apostles” who opposed Paul on the issue of the dietary or food law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Peter sees the necessity of keeping the Mosaic Law and achieving ethical perfectio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They agreed that Gentiles did not have to be circumcised to become Christian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Jewish Christianity faded out of existence with the conquering of Jerusalem in 70 C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Peter largely preached to Jew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4067280" cy="5373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Paul’s Letter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23640" y="1981080"/>
            <a:ext cx="410364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A collection of 13 letters attributable to Paul has been included in the Christian Scriptur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They were written before the Gospels and fall into 4 major them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Gentiles and the la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Problems of church lif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The imminent Parous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Letters from pris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940360" y="1773360"/>
            <a:ext cx="3017880" cy="3573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Paul’s Letter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858920" y="1981080"/>
            <a:ext cx="40338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-5065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However, most scholars argue that only between 7-10 letters were actually written by Paul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06520" indent="-5065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The letters considered to be authentic are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06520" indent="-5065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Roma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06520" indent="-5065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Galatia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06520" indent="-5065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1 and 2 Corinthia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06520" indent="-5065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1 Thessalonia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06520" indent="-5065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Philippia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06520" indent="-5065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Philem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1844640"/>
            <a:ext cx="4427640" cy="5013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Paul’s Letter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11280" y="1773000"/>
            <a:ext cx="475308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The other letters are either deemed </a:t>
            </a:r>
            <a:r>
              <a:rPr b="0" i="1" lang="en-AU" sz="2400" spc="-1" strike="noStrike">
                <a:solidFill>
                  <a:srgbClr val="ffffff"/>
                </a:solidFill>
                <a:latin typeface="Tahoma"/>
              </a:rPr>
              <a:t>pseudonymous 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or are disputed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These were written by his supporters and followers in his name even after he had died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Paul’s letters addressed particular problems occurring in the new Christian communitie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These communities believed they were living in the last days of the worl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1733400"/>
            <a:ext cx="3857760" cy="5124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Paul’s Letter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066920" y="2060640"/>
            <a:ext cx="4825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Paul’s letters addressed the different community needs and questions about Christian faith in a diverse societ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The letters were written in Greek and encouraged people in their life and faith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They were often complex documents written in a philosophical wa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The letters communicate Paul’s theology and his beliefs in Jesu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There is little reference to Jesus’ words or teaching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1733400"/>
            <a:ext cx="3851280" cy="5124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Question Tim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49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Why is Paul said to be the founder of Christianit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076720" y="2565360"/>
            <a:ext cx="3810240" cy="2781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Saul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03280" y="1267920"/>
            <a:ext cx="396108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Saul was born in Tarsus circa 10 CE. It was a centre of thriving culture, philosophy and educa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Saul was a </a:t>
            </a:r>
            <a:r>
              <a:rPr b="0" i="1" lang="en-AU" sz="2400" spc="-1" strike="noStrike">
                <a:solidFill>
                  <a:srgbClr val="ffffff"/>
                </a:solidFill>
                <a:latin typeface="Tahoma"/>
              </a:rPr>
              <a:t>Hellenistic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 Jew and a Roman citizen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He was a tent maker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Saul was brought up in Jerusalem and a student of Rabbi Gamaliel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He belonged to the Jewish tribe of Benjamin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4716360" cy="5300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304560"/>
            <a:ext cx="82152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Saul’s Convers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4176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He was a Pharisee and zealous for Jewish tradition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Saul was a persecutor of Christian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Saul never met Jesus, yet had a mystical conversion experience on the road to Damascus, 3-5 years after Jesus’ death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He knew the apostle Peter and James, the brother of Jesu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500720" y="1484280"/>
            <a:ext cx="4643280" cy="5373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Paul’s Journey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47530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Saul became Paul and a Christian missionary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His journeys, letters and preaching were integral in establishing Christianity in the Greco-Roman world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Paul’s belief that gentile Christians did not have to be circumcised or follow the Jewish law enabled a broader group of people to access Christianit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He laid down foundational beliefs about Christianit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292720" y="1413000"/>
            <a:ext cx="3851280" cy="5445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52336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Paul’s Theolog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003280" y="1557360"/>
            <a:ext cx="396108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The key aspects of Paul’s theology ar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Jesus died and was resurrected. Hence, all humans will be resurrected as well through belief in Jesus Chris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Salvation is available to all humanit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The church is a body united by belief and guided by the Holy Spirit.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1700280"/>
            <a:ext cx="4905360" cy="5157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Paul’s Death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508360" y="1981080"/>
            <a:ext cx="3384360" cy="36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Paul was executed in Rome circa 62 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His teachings have influenced every generation of Christian think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4427640" cy="5373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Paul’s Contribution to Christianit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79280" y="1981080"/>
            <a:ext cx="44640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After Jesus, Paul is the most significant figure in Christian histor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He is known as an </a:t>
            </a:r>
            <a:r>
              <a:rPr b="0" i="1" lang="en-AU" sz="2400" spc="-1" strike="noStrike">
                <a:solidFill>
                  <a:srgbClr val="ffffff"/>
                </a:solidFill>
                <a:latin typeface="Tahoma"/>
              </a:rPr>
              <a:t>Apostle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 (one sent) since he had a vision of Jesu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In this sense he was an eyewitness to the resurrec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Paul’s letters constitute about 25% of the Christian Scriptures and they are the earliest Christian documents to have been preserv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076720" y="1628640"/>
            <a:ext cx="4067280" cy="5229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Paul and Christian Doctrin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51280" y="1981080"/>
            <a:ext cx="511344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As a theologian, Paul formulated Christian doctrine, for exampl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ffffff"/>
                </a:solidFill>
                <a:latin typeface="Tahoma"/>
              </a:rPr>
              <a:t>Salvation</a:t>
            </a: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 through Jesus Chr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ffffff"/>
                </a:solidFill>
                <a:latin typeface="Tahoma"/>
              </a:rPr>
              <a:t>Atonement: </a:t>
            </a: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ie: Jesus’ death was a sacrifice for the sins of the worl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ffffff"/>
                </a:solidFill>
                <a:latin typeface="Tahoma"/>
              </a:rPr>
              <a:t>Eschatology</a:t>
            </a: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: the end times and the dawning of a new age. (the </a:t>
            </a:r>
            <a:r>
              <a:rPr b="0" i="1" lang="en-AU" sz="2800" spc="-1" strike="noStrike">
                <a:solidFill>
                  <a:srgbClr val="ffffff"/>
                </a:solidFill>
                <a:latin typeface="Tahoma"/>
              </a:rPr>
              <a:t>Parousia</a:t>
            </a: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1844640"/>
            <a:ext cx="3780000" cy="5013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Paul and Christian Doctrin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355640" y="1981080"/>
            <a:ext cx="453708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By separating the Mosaic Law from Christianity, Paul saw that Christianity was no longer a sect of Judaism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It became a religion in its own righ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Paul’s view of Christianity saw a united church of baptised follower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He saw the church as the “</a:t>
            </a:r>
            <a:r>
              <a:rPr b="0" i="1" lang="en-AU" sz="2800" spc="-1" strike="noStrike">
                <a:solidFill>
                  <a:srgbClr val="ffffff"/>
                </a:solidFill>
                <a:latin typeface="Tahoma"/>
              </a:rPr>
              <a:t>body of Christ</a:t>
            </a: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”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1700280"/>
            <a:ext cx="4067280" cy="5157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9T00:20:47Z</dcterms:created>
  <dc:creator> Karen Devine</dc:creator>
  <dc:description/>
  <dc:language>en-US</dc:language>
  <cp:lastModifiedBy> </cp:lastModifiedBy>
  <dcterms:modified xsi:type="dcterms:W3CDTF">2008-02-25T03:40:20Z</dcterms:modified>
  <cp:revision>3</cp:revision>
  <dc:subject/>
  <dc:title>Paul</dc:title>
</cp:coreProperties>
</file>