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3DC-00B6-4128-8A23-6CF3C4DB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3A5-F427-4E0F-9EB1-D67BC0E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32C-A237-4371-ACFB-CD1E1D93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C19-7754-429E-896F-FDD9D6F9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6FB7-D8F9-4F88-9BB4-BF6C14F0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12B8-DABC-4227-A013-BEBB8DF5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B213-F598-432E-A742-23B8E67F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951F-427B-463C-95EF-E01B9F1D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1A71-F62A-44E5-ACA5-9691CDEE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CE59-8212-401E-ABC0-2ABC4770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1564-4BF2-4DD9-9064-E10F5DA0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C47-9DE8-4524-8893-7B2F77EF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EDF0-3ADF-46B7-9001-12336C9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92EE-734A-4FF1-A553-8234C486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0EBA-7B74-4263-9F39-1252A629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5D86-B73F-4511-BA3A-3483D3CC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2662-5919-4C56-8155-15D613E1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67E-E379-4C30-B7A1-6FD3E952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856-DC9E-47B5-9E1F-80A6A3F7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DD8-2A49-402D-9562-0BFB5614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E52-436F-458F-943C-7E5EA1D2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76D-8E7A-4607-9739-2685F747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724-971A-4A11-BE79-B17EB30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A94-5EFC-4C57-96A5-2D3F40F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9094-C9BD-4001-8A02-45C46C7B3C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1974-AE3E-40DD-A17A-D66B817041B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476280"/>
            <a:ext cx="4968720" cy="5832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966800" y="664380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Tahoma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and Christian Ritu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325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’s uniting message is inclusive of women and they played a prominent leadership role in the early Christian Churc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 added rituals which are still used today includ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ahoma"/>
              </a:rPr>
              <a:t>Baptism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- Immersion in water symbolised death in Jesus and coming out of the water symbolised resurre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ahoma"/>
              </a:rPr>
              <a:t>Church meetings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met in honour of Jesus’ resurrec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ahoma"/>
              </a:rPr>
              <a:t>A communal meal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which Paul called “the Lord’s Supper”. It consisted of bread and wine and was in commemoration of the death of Jesu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35600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vs Pe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 the early Christian Communities most of the first Christians were Jew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ut what if a person was a gentile and wanted to be a Christian, did they have to become a Jew firs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eter and Paul had differing opin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vie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24360" y="1483920"/>
            <a:ext cx="49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One could become Christian without being a Jew fir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ntiles were not bound by the Jewish food la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ntiles were not bound to keep feast day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ntile men did not have to be circumci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acrifice through temple was no longer need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’s resolution of these issues effectively separated Judaism from Christianity permanentl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 largely preached to gentiles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et_paul" descr=""/>
          <p:cNvPicPr/>
          <p:nvPr/>
        </p:nvPicPr>
        <p:blipFill>
          <a:blip r:embed="rId1"/>
          <a:stretch/>
        </p:blipFill>
        <p:spPr>
          <a:xfrm>
            <a:off x="0" y="155736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eter’s vie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4360" y="155700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eter, James and John were the Jerusalem “apostles” who opposed Paul on the issue of the dietary or food la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eter sees the necessity of keeping the Mosaic Law and achieving ethical perfe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y agreed that Gentiles did not have to be circumcised to become Christi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Jewish Christianity faded out of existence with the conquering of Jerusalem in 70 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eter largely preached to Je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06728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llection of 13 letters attributable to Paul has been included in the Christian Script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y were written before the Gospels and fall into 4 major them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entiles and th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blems of church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imminent Parou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etters from pri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3017880" cy="35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58920" y="1981080"/>
            <a:ext cx="403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wever, most scholars argue that only between 7-10 letters were actually written by Pau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letters considered to be authentic ar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1 and 2 Corinth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42764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11280" y="1773000"/>
            <a:ext cx="4753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other letters are either deemed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pseudonymous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r are disput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se were written by his supporters and followers in his name even after he had di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ul’s letters addressed particular problems occurring in the new Christian commun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se communities believed they were living in the last days of the wor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3857760" cy="512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66920" y="2060640"/>
            <a:ext cx="482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’s letters addressed the different community needs and questions about Christian faith in a diverse socie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 letters were written in Greek and encouraged people in their life and fai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y were often complex documents written in a philosophical wa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 letters communicate Paul’s theology and his beliefs in Jesu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re is little reference to Jesus’ words or teach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3851280" cy="512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Question Ti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4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is Paul said to be the founder of Christianit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76720" y="256536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au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3280" y="1267920"/>
            <a:ext cx="3961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born in Tarsus circa 10 CE. It was a centre of thriving culture, philosophy and edu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a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Hellenistic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Jew and a Roman citiz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was a tent mak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brought up in Jerusalem and a student of Rabbi Gamalie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belonged to the Jewish tribe of Benjam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716360" cy="53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aul’s Conver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17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was a Pharisee and zealous for Jewish tradi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a persecutor of Christia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never met Jesus, yet had a mystical conversion experience on the road to Damascus, 3-5 years after Jesus’ dea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knew the apostle Peter and James, the brother of Jes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64328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Journey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became Paul and a Christian missiona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is journeys, letters and preaching were integral in establishing Christianity in the Greco-Roman worl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ul’s belief that gentile Christians did not have to be circumcised or follow the Jewish law enabled a broader group of people to access Christian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laid down foundational beliefs about Christian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851280" cy="544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5233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The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03280" y="1557360"/>
            <a:ext cx="3961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key aspects of Paul’s theology ar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Jesus died and was resurrected. Hence, all humans will be resurrected as well through belief in Jesus Chri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lvation is available to all human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church is a body united by belief and guided by the Holy Spirit.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90536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Dea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08360" y="1981080"/>
            <a:ext cx="338436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aul was executed in Rome circa 62 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is teachings have influenced every generation of Christian think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Contribution to Christian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46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fter Jesus, Paul is the most significant figure in Christian histo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is known as an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Apostle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(one sent) since he had a vision of Jes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this sense he was an eyewitness to the resurr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ul’s letters constitute about 25% of the Christian Scriptures and they are the earliest Christian documents to have been preserv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and Christian Doctr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51280" y="1981080"/>
            <a:ext cx="5113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s a theologian, Paul formulated Christian doctrine, for 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Salvation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through Jesus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Atonement: 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e: Jesus’ death was a sacrifice for the sins of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Eschatology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: the end times and the dawning of a new age. (the </a:t>
            </a: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Parousia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7800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and Christian Doctr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55640" y="1981080"/>
            <a:ext cx="45370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y separating the Mosaic Law from Christianity, Paul saw that Christianity was no longer a sect of Judai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became a religion in its own r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aul’s view of Christianity saw a united church of baptised follow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e saw the church as the “</a:t>
            </a: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body of Christ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06728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0:20:47Z</dcterms:created>
  <dc:creator> Karen Devine</dc:creator>
  <dc:description/>
  <dc:language>en-US</dc:language>
  <cp:lastModifiedBy> </cp:lastModifiedBy>
  <dcterms:modified xsi:type="dcterms:W3CDTF">2008-02-25T03:40:20Z</dcterms:modified>
  <cp:revision>3</cp:revision>
  <dc:subject/>
  <dc:title>Paul</dc:title>
</cp:coreProperties>
</file>