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F85-8A9E-44AC-887C-6C161E74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406-8955-48BB-ABF8-697E6A9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D9F-A8CB-476E-9CAF-DAD0F80E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FBB-18B3-4727-977A-065ABAD3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D2B-4D19-4739-AD54-C31C4C19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4EB6-E376-407C-8917-2330113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609-B2D7-406A-8E74-62A4322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AD0-DEE2-43DE-9D9D-C7F5580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7B67-5099-4876-AAB8-99FA64B1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CDC-E42A-4411-9508-9445804B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1215-86D5-4F9B-A654-15FA5F63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4C3-03C3-489A-88A6-CFE2D51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0036-5CB5-4975-8F1E-D77692E8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FA4-6ADC-4C59-9ABE-A3A8DC69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67D5-AB5E-475C-9BA6-3A2DFED0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EFF8-2D1C-4EC6-A3B4-65C8715F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0890-1962-46AE-88E2-F0C775B1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72B-C4B5-4642-9EA5-0B3AE28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FB8-0A15-48E6-A459-5DD4618B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F5A-0EF6-4994-B9FE-9368243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6AD-DA1B-4339-A787-D4019E89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F9F-76F4-4E2C-873C-89685920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14E-7628-4030-BEA5-70F7BF96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C3A-C499-45F0-92B0-E205F9A7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AF8-A59C-4013-9E27-3C3F36F8959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58DE-5B5E-4261-8240-C2DCFF780A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476280"/>
            <a:ext cx="4968720" cy="583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966800" y="6643800"/>
            <a:ext cx="118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ffffff"/>
                </a:solidFill>
                <a:latin typeface="Tahoma"/>
              </a:rPr>
              <a:t>©</a:t>
            </a:r>
            <a:r>
              <a:rPr b="0" lang="en-AU" sz="800" spc="-1" strike="noStrike">
                <a:solidFill>
                  <a:srgbClr val="ffffff"/>
                </a:solidFill>
                <a:latin typeface="Tahoma"/>
              </a:rPr>
              <a:t> Karen Devine 2008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Ritua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84280"/>
            <a:ext cx="43257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uniting message is inclusive of women and they played a prominent leadership role in the early Christian Churc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added rituals which are still used today includ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Baptism 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- Immersion in water symbolised death in Jesus and coming out of the water symbolised resurr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Church meetings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met in honour of Jesus’ resurrectio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Tahoma"/>
              </a:rPr>
              <a:t>A communal meal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which Paul called “the Lord’s Supper”. It consisted of bread and wine and was in commemoration of the death of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35600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vs Pet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 the early Christian Communities most of the first Christians were Jew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ut what if a person was a gentile and wanted to be a Christian, did they have to become a Jew firs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ter and Paul had differing opin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24360" y="1483920"/>
            <a:ext cx="49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One could become Christian without being a Jew fir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by the Jewish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s were not bound to keep feast day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Gentile men did not have to be circumci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Sacrifice through temple was no longer need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resolution of these issues effectively separated Judaism from Christianity permanent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 largely preached to gentiles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et_paul" descr=""/>
          <p:cNvPicPr/>
          <p:nvPr/>
        </p:nvPicPr>
        <p:blipFill>
          <a:blip r:embed="rId1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eter’s view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84360" y="1557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, James and John were the Jerusalem “apostles” who opposed Paul on the issue of the dietary or food la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sees the necessity of keeping the Mosaic Law and achieving ethical perfe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agreed that Gentiles did not have to be circumcised to become Christi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Jewish Christianity faded out of existence with the conquering of Jerusalem in 70 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eter largely preached to J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067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llection of 13 letters attributable to Paul has been included in the Christian Scriptu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y were written before the Gospels and fall into 4 major them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entiles and the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blems of church li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imminent Parou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Letters from pri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3017880" cy="357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58920" y="1981080"/>
            <a:ext cx="403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wever, most scholars argue that only between 7-10 letters were actually written by Pau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letters considered to be authentic ar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om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Galat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and 2 Corinth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1 Thessalon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ipp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hilem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42764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11280" y="177300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other letters are either deemed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pseudonymous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r are disput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were written by his supporters and followers in his name even after he had di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addressed particular problems occurring in the new Christian communitie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se communities believed they were living in the last days of the wor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776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Lett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66920" y="2060640"/>
            <a:ext cx="4825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aul’s letters addressed the different community needs and questions about Christian faith in a diverse socie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were written in Greek and encouraged people in their life and fait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y were often complex documents written in a philosophical wa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 letters communicate Paul’s theology and his beliefs in Jesu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There is little reference to Jesus’ words or teach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733400"/>
            <a:ext cx="3851280" cy="512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Question Ti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4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is Paul said to be the founder of Christianit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810240" cy="27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1267920"/>
            <a:ext cx="3961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orn in Tarsus circa 10 CE. It was a centre of thriving culture, philosophy and edu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Hellenistic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Jew and a Roman citize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tent mak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brought up in Jerusalem and a student of Rabbi Gamalie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belonged to the Jewish tribe of Benjami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2152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Saul’s Convers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176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was a Pharisee and zealous for Jewish tradi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was a persecutor of Christia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never met Jesus, yet had a mystical conversion experience on the road to Damascus, 3-5 years after Jesus’ dea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knew the apostle Peter and James, the brother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464328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Journey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ul became Paul and a Christian missiona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is journeys, letters and preaching were integral in establishing Christianity in the Greco-Roman worl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belief that gentile Christians did not have to be circumcised or follow the Jewish law enabled a broader group of people to access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laid down foundational beliefs about Christi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92720" y="1413000"/>
            <a:ext cx="3851280" cy="544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5233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The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03280" y="1557360"/>
            <a:ext cx="3961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key aspects of Paul’s theology ar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Jesus died and was resurrected. Hence, all humans will be resurrected as well through belief in Jesus Chri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Salvation is available to all human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church is a body united by belief and guided by the Holy Spirit.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90536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Death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1981080"/>
            <a:ext cx="338436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 was executed in Rome circa 62 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is teachings have influenced every generation of Christian think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537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’s Contribution to Christian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46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fter Jesus, Paul is the most significant figure in Christian histo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e is known as an 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Apostle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(one sent) since he had a vision of Jes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this sense he was an eyewitness to the resurre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aul’s letters constitute about 25% of the Christian Scriptures and they are the earliest Christian documents to have been preser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522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51280" y="1981080"/>
            <a:ext cx="51134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s a theologian, Paul formulated Christian doctrine, 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Salvation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hrough Jesus Chr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Atonement: 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e: Jesus’ death was a sacrifice for the sins of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Eschatology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: the end times and the dawning of a new age. (the 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Parousia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3780000" cy="50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aeaea"/>
                </a:solidFill>
                <a:latin typeface="Tahoma"/>
              </a:rPr>
              <a:t>Paul and Christian Doctr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55640" y="1981080"/>
            <a:ext cx="45370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By separating the Mosaic Law from Christianity, Paul saw that Christianity was no longer a sect of Judai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t became a religion in its own r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Paul’s view of Christianity saw a united church of baptised follow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He saw the church as the “</a:t>
            </a:r>
            <a:r>
              <a:rPr b="0" i="1" lang="en-AU" sz="2800" spc="-1" strike="noStrike">
                <a:solidFill>
                  <a:srgbClr val="ffffff"/>
                </a:solidFill>
                <a:latin typeface="Tahoma"/>
              </a:rPr>
              <a:t>body of Christ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067280" cy="51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0:20:47Z</dcterms:created>
  <dc:creator> Karen Devine</dc:creator>
  <dc:description/>
  <dc:language>en-US</dc:language>
  <cp:lastModifiedBy> </cp:lastModifiedBy>
  <dcterms:modified xsi:type="dcterms:W3CDTF">2008-02-25T03:40:20Z</dcterms:modified>
  <cp:revision>3</cp:revision>
  <dc:subject/>
  <dc:title>Paul</dc:title>
</cp:coreProperties>
</file>