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8027-3C23-4DB4-A306-75427970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9ECF-42C3-4CF1-967D-2856D81C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661D-7582-4A96-8BA1-625D261A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A453-CC84-4C9E-B916-4DFC36D2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1165-A314-4734-82AC-1D24F8C7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0F56-71FB-4F8D-AC83-0DC4BD94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801C-A344-4123-8DB0-7CF62B13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576D-3904-444C-BE40-E013DCE3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58A3-051B-4408-A93D-4640B5AA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20C0-3D52-4F5B-9E09-74D2DFAF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7245-764F-489F-8A78-C95F2826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9674-A8DA-4260-96AC-C90B1C39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EF11-054B-483D-AD03-AFB4ABF4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BBA3-6534-488C-ABE7-9485CF43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713A-A3D5-4E44-9781-AC3B1430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3BF1-6815-496B-8830-7A4AAC7C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C1F8-9FB3-46E6-9E45-82A98A87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75D7-7317-40FF-8C02-965CD280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C985-1820-4C3B-A8FC-F61BB1D0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50F6-D791-44BB-819D-C27818B5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5A35-C4EA-437C-B8A9-C73F12FE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E902-BFF5-4742-A8D2-D166F1B0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4E37-AD40-4E27-AA39-08FCC010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33A9-4BE0-45C4-86D0-6BD573A4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E6EF-E919-4CA9-A150-256B08AAD0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D63C-F129-4FF9-B06C-D985F95E1F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40360" y="1628640"/>
            <a:ext cx="4533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ffff"/>
                </a:solidFill>
                <a:latin typeface="Arial"/>
              </a:rPr>
              <a:t>New Religious Worldview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5364000" y="3716280"/>
            <a:ext cx="2695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the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gnostic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um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851280" cy="424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6880" y="6616800"/>
            <a:ext cx="118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ffffff"/>
                </a:solidFill>
                <a:latin typeface="Verdana"/>
              </a:rPr>
              <a:t>©</a:t>
            </a:r>
            <a:r>
              <a:rPr b="0" lang="en-AU" sz="800" spc="-1" strike="noStrike">
                <a:solidFill>
                  <a:srgbClr val="ffffff"/>
                </a:solidFill>
                <a:latin typeface="Verdana"/>
              </a:rPr>
              <a:t> Karen Devin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Scientific Human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374328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n intellectual movement which focuses on justice, equality and world pe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cientific Humanism rejects the notion of the supernatural and is reliant upon reason and sci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572000" y="1628640"/>
            <a:ext cx="4572000" cy="522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Scientific Human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3927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cience replaces faith as being the salvation of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ost human problems are able to be resolved through sci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cientific Humanists do not believe that they can answer every human ques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4788000" y="1484280"/>
            <a:ext cx="4356000" cy="489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Personal Ref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ategorise your religious belief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724360" y="1700280"/>
            <a:ext cx="2857680" cy="4352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Athe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427640" y="1600200"/>
            <a:ext cx="4465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theism is a denial of a belief in G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God is </a:t>
            </a: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refuted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due to the existence of evil 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theists generally deny a world beyond the tang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roots of atheism are found in the Enlightenment when people sought to discover science, philosophy and reas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0" y="1628640"/>
            <a:ext cx="4211640" cy="439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Athe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3923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theists reject traditional religion and its purpo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theists often see th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eligion prevents interaction between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“existence” of god restricts human problem sol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eligion promotes unnecessary gui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eligion promotes a constant fear of eternal dam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4427640" cy="439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Athe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84720" y="1700280"/>
            <a:ext cx="46800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Yet, atheists can be very “religious” in their atheism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y can argue strongly about the dangerous force called relig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re are degrees of atheis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ore moderate viewpoints merely express a lack of personal belief in g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250920" y="1773360"/>
            <a:ext cx="3889440" cy="482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Athe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824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biggest pushes towards atheism includ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harles Darwin’s theory of evolution which was a challenge to the notion of cre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archaeological discoveries which have found that the bible is lacking in historical accura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scientific impossibility of proving the existence of G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cientific evidence of how the earth evol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076720" y="1557360"/>
            <a:ext cx="3821040" cy="46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Agnostic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708000" y="1600200"/>
            <a:ext cx="5256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gnostics do not </a:t>
            </a:r>
            <a:r>
              <a:rPr b="0" i="1" lang="en-AU" sz="3200" spc="-1" strike="noStrike">
                <a:solidFill>
                  <a:srgbClr val="ffffff"/>
                </a:solidFill>
                <a:latin typeface="Arial"/>
              </a:rPr>
              <a:t>know (gnosis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) if there is a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re is an element of “lack of being sure” in the existence of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gnostics generally are open to belief or disbelief. They merely await evid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omas Huxley invented the term in the 1840’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0" y="1484280"/>
            <a:ext cx="3564000" cy="5373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Rational Human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969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umanism is a secular alternative to the mainstream religious fait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 focus of Humanism is that people are more important than other consid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umanism opposes religion in its focus on God as being the most import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0" y="1557360"/>
            <a:ext cx="3924360" cy="460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Rational Human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920" y="1530000"/>
            <a:ext cx="518472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umanists see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orality is based on human understanding and em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re is no evidence of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umans can solve the world’s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ocial cooperation and respect are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3851280" cy="410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Rational Human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608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ational Humanism takes the position that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reason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rather than religious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dogma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should determine what is best for human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 rational mind is needed for problem solving, not a mind burdened with religious restri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64000" y="1628640"/>
            <a:ext cx="3780000" cy="460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21:43:13Z</dcterms:created>
  <dc:creator> Karen Devine</dc:creator>
  <dc:description/>
  <dc:language>en-US</dc:language>
  <cp:lastModifiedBy> </cp:lastModifiedBy>
  <dcterms:modified xsi:type="dcterms:W3CDTF">2008-02-25T00:14:19Z</dcterms:modified>
  <cp:revision>3</cp:revision>
  <dc:subject/>
  <dc:title>New Religious Worldviews</dc:title>
</cp:coreProperties>
</file>