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C30-9121-49CF-8BE5-09B3FC23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C1CC-67A2-4243-9239-41B238E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9D7-6481-4485-A043-9E59E6AD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A9D-EA14-4895-A8E7-4F922B07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9D81-483E-4D64-8BCC-3BC10341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1E8D-4589-4774-A4C7-008A5CB0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C536-6820-429D-A08C-5BD734EA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7132-10D7-4376-B15F-B93E85C9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3B1D-7264-498D-BEC0-E451EE3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79A-5434-4D32-9753-3FFCB5CC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D7E0-0308-43BA-848E-4A3DC4B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43C-ECAC-4D52-8CED-1E5407C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704A-B4B8-403C-882C-F254BAF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5FB7-671B-4641-978A-CE38752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F8A7-DCA9-4527-84CA-A40A7A0D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4EDD-3B94-442B-9217-DFBC87ED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7915-B81B-45AF-A04A-FDCE0282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2BEB-E5A9-4CAF-AED2-92FD0D77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B8A-455B-45A5-AC04-1AAF044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A84-1969-44FC-98BB-FFEDA886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F23-13CE-4038-9BC1-27940BC2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8B1-E653-4907-BFE8-7BAADB0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CFF-CA9B-4468-94A1-2B634F59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4EA-4C01-4F68-8EB5-A973E47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5332-304B-404B-A00D-3EDD701C97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4D26-6A1F-4707-970F-5AC5E45FC0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0360" y="1628640"/>
            <a:ext cx="453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New Religious World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64000" y="3716280"/>
            <a:ext cx="26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51280" cy="424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6880" y="6616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Verdan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Verdan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ientific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7432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 intellectual movement which focuses on justice, equality and world pe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tific Humanism rejects the notion of the supernatural and is reliant upon reason and 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ientific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92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ce replaces faith as being the salvation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st human problems are able to be resolved through 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tific Humanists do not believe that they can answer every human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435600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Personal Ref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tegorise your religious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8576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27640" y="1600200"/>
            <a:ext cx="446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m is a denial of a belief in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futed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due to the existence of evil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generally deny a world beyond the tang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roots of atheism are found in the Enlightenment when people sought to discover science, philosophy and rea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162864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9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reject traditional religion and its purp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often see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events interaction between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“existence” of god restricts human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omotes unnecessary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omotes a constant fear of eternal dam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4427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68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t, atheists can be very “religious” in their atheism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can argue strongly about the dangerous force called reli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re are degrees of athe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re moderate viewpoints merely express a lack of personal belief in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50920" y="1773360"/>
            <a:ext cx="388944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biggest pushes towards atheism inclu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rles Darwin’s theory of evolution which was a challenge to the notion of cre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archaeological discoveries which have found that the bible is lacking in historical accura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scientific impossibility of proving the existence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cientific evidence of how the earth ev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2104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gnostic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5256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s do not 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know (gnosi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) if there is a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re is an element of “lack of being sure” in the existenc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s generally are open to belief or disbelief. They merely await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omas Huxley invented the term in the 184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1484280"/>
            <a:ext cx="356400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 is a secular alternative to the mainstream religious fai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focus of Humanism is that people are more important than other consid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 opposes religion in its focus on God as being the most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392436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530000"/>
            <a:ext cx="51847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ts see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ality is based on human understanding and em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re is no evidenc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s can solve the world’s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cial cooperation and respect are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8512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tional Humanism takes the position that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rather than religiou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ogma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should determine what is best for huma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rational mind is needed for problem solving, not a mind burdened with religious restri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78000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3:13Z</dcterms:created>
  <dc:creator> Karen Devine</dc:creator>
  <dc:description/>
  <dc:language>en-US</dc:language>
  <cp:lastModifiedBy> </cp:lastModifiedBy>
  <dcterms:modified xsi:type="dcterms:W3CDTF">2008-02-25T00:14:19Z</dcterms:modified>
  <cp:revision>3</cp:revision>
  <dc:subject/>
  <dc:title>New Religious Worldviews</dc:title>
</cp:coreProperties>
</file>