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F27-3426-4137-8BF4-2CCC134C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CCF-7771-4B98-84D4-CA8ECDD6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145-612A-4007-9B3A-4EA7F70E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EBB-CB43-4B94-8BFF-ACEF072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2790-A440-494D-A4FD-96955479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C854-2496-4A45-9D10-572C8C9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3923-37AF-48D1-B4C4-9E80FFF0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0B4A-E812-462C-8D95-BF0292F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94E9-AB17-422C-8086-88066901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8279-D40C-4960-80C4-E25518E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2EA8-44B4-45D9-A337-E160C67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674-D318-405A-8B1D-F8F07F9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6353-4770-47AC-9881-CE0EB51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659F-79F8-4FC1-BF1B-E450990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5C4D-AD81-47A1-817C-E154511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B8F6-CDA5-4D37-B3E0-C34B869F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906B-C3CD-4DDA-AA38-537A6D42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6BE-0E4E-49FF-996F-F93CCA2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DC3-98B8-41EE-B7DB-2C054E45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7CE-3A10-43E4-9E68-D365B406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6A1-8A88-42B1-9DD6-C0D2C71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16F-0B70-43A6-B29C-C6EBC514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7CB-479C-43D8-9EF0-FF9F2632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FF7-B07A-4C4B-A75D-A534481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BEC4-7F28-4845-BCB7-B768C70C0C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8D86-1DCF-484A-93E8-326AAD6771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0360" y="1628640"/>
            <a:ext cx="4533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New Religious Worldview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64000" y="3716280"/>
            <a:ext cx="2695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51280" cy="424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6880" y="6616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Verdan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Verdan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ientific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7432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 intellectual movement which focuses on justice, equality and world pe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tific Humanism rejects the notion of the supernatural and is reliant upon reason and 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ientific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39272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ce replaces faith as being the salvation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st human problems are able to be resolved through 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entific Humanists do not believe that they can answer every human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4356000" cy="489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Personal Ref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ategorise your religious belief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28576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27640" y="1600200"/>
            <a:ext cx="446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m is a denial of a belief in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refuted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due to the existence of evil 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generally deny a world beyond the tang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roots of atheism are found in the Enlightenment when people sought to discover science, philosophy and rea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1628640"/>
            <a:ext cx="4211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9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reject traditional religion and its purp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theists often see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events interaction between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“existence” of god restricts human 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omotes unnecessary g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ligion promotes a constant fear of eternal dam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4427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68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t, atheists can be very “religious” in their atheism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y can argue strongly about the dangerous force called reli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re are degrees of atheis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re moderate viewpoints merely express a lack of personal belief in g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250920" y="1773360"/>
            <a:ext cx="388944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the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biggest pushes towards atheism inclu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harles Darwin’s theory of evolution which was a challenge to the notion of cre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archaeological discoveries which have found that the bible is lacking in historical accura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scientific impossibility of proving the existence of G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cientific evidence of how the earth evol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2104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Agnostic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5256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s do not </a:t>
            </a:r>
            <a:r>
              <a:rPr b="0" i="1" lang="en-AU" sz="3200" spc="-1" strike="noStrike">
                <a:solidFill>
                  <a:srgbClr val="ffffff"/>
                </a:solidFill>
                <a:latin typeface="Arial"/>
              </a:rPr>
              <a:t>know (gnosis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) if there is a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re is an element of “lack of being sure” in the existenc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gnostics generally are open to belief or disbelief. They merely await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omas Huxley invented the term in the 1840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1484280"/>
            <a:ext cx="3564000" cy="537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 is a secular alternative to the mainstream religious fait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focus of Humanism is that people are more important than other consid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m opposes religion in its focus on God as being the most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0" y="1557360"/>
            <a:ext cx="3924360" cy="46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530000"/>
            <a:ext cx="518472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ists see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rality is based on human understanding and em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re is no evidence of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mans can solve the world’s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cial cooperation and respect are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8512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Rational Hum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tional Humanism takes the position that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reaso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rather than religious 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ogma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should determine what is best for huma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 rational mind is needed for problem solving, not a mind burdened with religious restri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64000" y="1628640"/>
            <a:ext cx="378000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1:43:13Z</dcterms:created>
  <dc:creator> Karen Devine</dc:creator>
  <dc:description/>
  <dc:language>en-US</dc:language>
  <cp:lastModifiedBy> </cp:lastModifiedBy>
  <dcterms:modified xsi:type="dcterms:W3CDTF">2008-02-25T00:14:19Z</dcterms:modified>
  <cp:revision>3</cp:revision>
  <dc:subject/>
  <dc:title>New Religious Worldviews</dc:title>
</cp:coreProperties>
</file>