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493-EC8D-461B-95D4-80C85AA3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BAB-D66C-4308-BACF-0EF024B1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4BB-EEF5-4457-9DD3-1A0CF271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6BF-C943-4BCE-B73F-0EDFBDCA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F54F-0CB4-4294-BE1B-65795D30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E613-1D87-4553-811F-CEB77E0E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31EF-D7AE-4C87-A1F3-F34AA9F4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C324-4ED0-48B1-A9AC-1E5FBAE9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314B-1695-4FEE-8ADA-3B35D5B3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588C-AA37-4979-9CA9-030C27AC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5F5F-CBA0-45A0-B56F-45D88C6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B64-8040-4D51-84FC-EFA148D6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8FFB-AA94-47D3-9CD2-067CE137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C8E7-FE61-4E8B-B7A7-AD236AD7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2541-23C5-4788-8B54-3D648767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AFC0-215A-4464-B328-7047CB93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0C5B-A62F-4D85-848D-555AC646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4CC-4141-42D0-A92C-F8484E0E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F60-669C-4D9A-AF4A-EF53826D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49A-6DA0-4911-8DBF-525B2FD2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8EA-193A-4C35-831B-3D161087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96A-4C45-497C-B0C7-3B523C14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F2F-D2D3-46BD-9106-2D4C80A3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D90-8C2D-4810-9A85-0B8FEA8C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CECA-2C23-4D59-9224-CD9382E768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E174-0A7B-477B-9735-6B672785DE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riage from a Catholic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2852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Impedi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finity (can.1092) Direct line.  A parent-in –law may not marry a child-in-la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option (can 1094) Can’t marry one’s adopted child nor a brother/sister by adop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4 August 1977 – Episcopal Conference statement on mixed marri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ul VI stated (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dissuade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 Mixed marriages because of inherent differen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 Matrimonia mix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rissme Ecclesia ubique prohibet can 106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tromonia mixta – introduced 2 changes to the la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 partner MUST declare his/her readiness to remove all dangers to his own fait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ke a serious &amp; sincere promise to do all in his/her power to have the children of the marriage baptized and brought up in the Catholic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ul VI (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Matrimonia mixta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Code – No formal promi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’s obligation is to preserve &amp; practice his/her fait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human authority can dispense it OR cause someone to lose i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s can do no more than promi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greement unable to be reach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reat to marri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bstacle to harmony &amp; future of marri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ither divine or ecclesiastical law demands moral certainty to have children bapt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n practising catholic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mixed marriages present NO problem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1086 – Disparity of cul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1124 – Mixed relig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1125 – specific guideli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eek civil law recognizes a marriage in a Catholic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eek Orthodox Church will NOT recognize the marri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67 – Latin Catholic in an Orthodox Church is valid. – Catholic Church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tween Australia &amp; Phillipp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piscopal Conf. 198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ubts by Pri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country dialogu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very young – common motiv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sire to escape hom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nse of failure/accep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w self-estee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neliness/depres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ie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ac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e only permitted to perform the wed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rrying out of physical attra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one else is getting marri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ft on the shelf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ents wanting to get rid child through marri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love with lo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rriage as a status symb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ney/social stan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place to l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pectation is that the young do not fully understand the commitment of marri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cultural Marri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ware of potential proble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le of religion, childr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Matramonnia Mix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 Marriage after Death or Null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e and consideration after death or Nul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andicapped – Understanding and careful planning. – provis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611360"/>
            <a:ext cx="3398760" cy="3633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51040" y="575640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5715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5791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ocumen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onwealth of Austra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97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ice of Intended Marri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month &amp; 1 Da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eted by both part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 18 NOT allow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9360" y="2044800"/>
            <a:ext cx="3997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-Nuptial Inqui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97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ice of Intended Marri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 month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eted by both part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 18 NOT allow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9360" y="2044800"/>
            <a:ext cx="3997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umanae Vit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 Church DOES NOT allow two wedding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wedding is vali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convalida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eek Church requires a PROMI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. Ch. Abandoned this in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Mat.mi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oice of parish remains with coup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non 1115 removed – brides pari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usal if couple do not live in the pari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paration – Pre Nuptial Inqui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ifications – to parish of bapt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ification to Chance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ice of Marriage – 30 days noti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ree months notice - prepar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ediments – Cannon 1083 – 109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otence (can 1084) must exist at the time of the wedding and be permanen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ior Bond – (can 1085) Prior married, no death certificate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s are bound by canonical for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ican marries a Uniting in a civil ceremony – NO defect of for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ime (can.1090) murdered to pave the way to marry an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sanguinity (can 1091) marriage within the fami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angui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362320"/>
            <a:ext cx="6019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Br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666520" y="2666880"/>
            <a:ext cx="12956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666880"/>
            <a:ext cx="838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133360" y="342900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4290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457200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35053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angui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cousins – (Alice &amp; Davi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tact with Genetic Doct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caution on marrying those too clo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pply for a dispens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for a family tre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angui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pecific Teac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law becomes Secular la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02:05:23Z</dcterms:created>
  <dc:creator>Michael Pate</dc:creator>
  <dc:description/>
  <dc:language>en-US</dc:language>
  <cp:lastModifiedBy>John Therry CHS</cp:lastModifiedBy>
  <dcterms:modified xsi:type="dcterms:W3CDTF">2003-07-23T05:13:21Z</dcterms:modified>
  <cp:revision>5</cp:revision>
  <dc:subject/>
  <dc:title>Marriage from a Catholic Perspective</dc:title>
</cp:coreProperties>
</file>