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233-C2D3-4A3D-BCB0-BF57F518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761-AFAC-4C73-A176-94A5C05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E49-B12E-4E0F-A87D-D9D67CCC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FE9-759F-41C7-95D6-C8A04014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910B-FF60-4846-85E3-4CE36F25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F404-39CD-4C5F-88FD-1E63FE44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D68A-BC5A-44C6-897E-674E6ED1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D5DE-05BA-4AC1-A316-2313D227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C09E-A7C8-4D34-A182-08C9C015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7631-C5D2-4D86-B724-290BCC97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C8E3-921D-4132-9CE8-5BE7782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A0F-DF50-4C06-9F0C-7FF2E86D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C72-BADB-4C1A-97F6-FCFD6FFA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4AC1-E294-4F2D-AC57-47F8D3B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BBC5-2A41-463D-B189-20D0BCB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464C-BE40-4A86-84E2-E22AE437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290A-632B-49FA-A826-52DC90F3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64E-6C99-41AC-B62E-D567ACA0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D81-9E78-46AD-A7CB-8C502CAE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011-BDBA-4F99-B7EC-820E404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7D7-6B95-43EA-BF5E-B73539D6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F8F-DDEC-4A7D-B7E4-131FE8D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71B-5A7C-4110-B7CC-85FBCC32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933-8139-499B-B2C4-313E75AA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9C20-2BB6-4F8F-9893-D84142812D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76B8-58C8-416E-AE3B-10824B09DC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riage from a Catholic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852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mpedi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inity (can.1092) Direct line.  A parent-in –law may not marry a child-in-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option (can 1094) Can’t marry one’s adopted child nor a brother/sister by adop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4 August 1977 – Episcopal Conference statement on mixed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stated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dissuade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 Mixed marriages because of inherent differen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 Matrimo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rissme Ecclesia ubique prohibet can 10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tromonia mixta – introduced 2 changes to the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partner MUST declare his/her readiness to remove all dangers to his own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 a serious &amp; sincere promise to do all in his/her power to have the children of the marriage baptized and brought up in the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imonia mixt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Code – No formal promi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’s obligation is to preserve &amp; practice his/her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human authority can dispense it OR cause someone to lose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can do no more than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eement unable to be reach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at to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stacle to harmony &amp; future of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ither divine or ecclesiastical law demands moral certainty to have children bapt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n practising catholic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mixed marriages present NO problem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086 – Disparity of cul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4 – Mixed reli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5 – specific guideli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ivil law recognizes a marriage in a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Orthodox Church will NOT recognize the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67 – Latin Catholic in an Orthodox Church is valid. – Catholic Church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tween Australia &amp; Phillipp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piscopal Conf. 198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ubts by Pri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ountry dialogu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ery young – common moti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sire to escape ho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nse of failure/accep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 self-este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neliness/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c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e only permitted to perform the wed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ying out of physical attra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one else is getting marri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ft on the shel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s wanting to get rid child through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love with lo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iage as a status symb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ney/social stan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place to l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ctation is that the young do not fully understand the commitment of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ultural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ware of potential probl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le of religion, childr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amon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 Marriage after Death or Null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e and consideration after death or Nul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andicapped – Understanding and careful planning. – provi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398760" cy="3633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1040" y="57564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715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791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ocu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wealth of Austra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month &amp; 1 Da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-Nuptial Inqui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month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ae Vit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Church DOES NOT allow two wedding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wedding is val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convalida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hurch requires a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. Ch. Abandoned this in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.m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ice of parish remains with coup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non 1115 removed – brides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if couple do not live in the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paration – Pre Nuptial Inqui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s – to parish of bapt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 to Chanc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ce of Marriage – 30 days not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e months notice - prepar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ediments – Cannon 1083 – 109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otence (can 1084) must exist at the time of the wedding and be permanen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or Bond – (can 1085) Prior married, no death certific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are bound by canonical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ican marries a Uniting in a civil ceremony – NO defect of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ime (can.1090) murdered to pave the way to marry an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anguinity (can 1091) marriage within the fami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019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Br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26668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66688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133360" y="342900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4290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45720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35053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cousins – (Alice &amp; Dav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tact with Genetic Doc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caution on marrying those too clo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y for a dispens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for a family tre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ecific Teac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law becomes Secular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2:05:23Z</dcterms:created>
  <dc:creator>Michael Pate</dc:creator>
  <dc:description/>
  <dc:language>en-US</dc:language>
  <cp:lastModifiedBy>John Therry CHS</cp:lastModifiedBy>
  <dcterms:modified xsi:type="dcterms:W3CDTF">2003-07-23T05:13:21Z</dcterms:modified>
  <cp:revision>5</cp:revision>
  <dc:subject/>
  <dc:title>Marriage from a Catholic Perspective</dc:title>
</cp:coreProperties>
</file>