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CCC-4E52-44BD-B7DD-CB5D6613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9F4-358B-4D42-AD36-4B80EB6B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17B-BA88-42D4-B77B-2A3162B4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C03-F2E4-485E-832A-5B5CF650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4F83-87C4-41B0-B700-D5430CD3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F902-921D-493A-A1E1-9A3A6AEC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70F4-CBDE-4C98-BE0A-BDBE5B5D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D2B1-2470-43D0-B6EA-0188573C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F59E-B84D-4703-8F1B-4AC35BDB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F98A-A907-479F-A125-639E979A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5DCD-1CD4-4E9E-857B-74A7E6A4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B1D-2340-438C-880C-5769DF79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D5B1-536E-4E08-AFAF-DA3DF0A0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04BC-1664-4F7C-9E47-198A135D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B952-51DD-4ECA-8F04-F8711A83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4074-DA57-47C0-B569-C15BD941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E74A-9A4D-408A-8BEA-39BC1384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886-5F54-4C4D-8D42-AF4FAFED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214-8A71-4104-8708-FC36D42F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999-A58B-4113-8B1F-B6722259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666-C5B2-44C4-A482-2093A18D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885-C43C-4FEB-988B-899D406F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140-D567-4518-8764-BD021C9E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353-12EB-407E-8178-5E8F1D5B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A747-D9F4-4056-ACBC-8740316D58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D505-D656-474D-B6D9-217721A07C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riage from a Catholic Persp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2852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Impedim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ffinity (can.1092) Direct line.  A parent-in –law may not marry a child-in-la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option (can 1094) Can’t marry one’s adopted child nor a brother/sister by adop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4 August 1977 – Episcopal Conference statement on mixed marri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ul VI stated (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dissuade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 Mixed marriages because of inherent differen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 Matrimonia mix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rissme Ecclesia ubique prohibet can 1060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tromonia mixta – introduced 2 changes to the la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 partner MUST declare his/her readiness to remove all dangers to his own fait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ke a serious &amp; sincere promise to do all in his/her power to have the children of the marriage baptized and brought up in the Catholic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ul VI (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Matrimonia mixta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Code – No formal promi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’s obligation is to preserve &amp; practice his/her fait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human authority can dispense it OR cause someone to lose i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s can do no more than promi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greement unable to be reach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reat to marri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bstacle to harmony &amp; future of marri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ither divine or ecclesiastical law demands moral certainty to have children bapt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n practising catholic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mixed marriages present NO problem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1086 – Disparity of cul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1124 – Mixed relig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1125 – specific guidelin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eek civil law recognizes a marriage in a Catholic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eek Orthodox Church will NOT recognize the marria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67 – Latin Catholic in an Orthodox Church is valid. – Catholic Church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tween Australia &amp; Phillippn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piscopal Conf. 198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ubts by Pri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country dialogu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very young – common motiv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sire to escape hom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nse of failure/accep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w self-estee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neliness/depres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ie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eac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e only permitted to perform the wed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rrying out of physical attrac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eryone else is getting marri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ft on the shelf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arents wanting to get rid child through marria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 love with lo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rriage as a status symb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ney/social stand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place to l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pectation is that the young do not fully understand the commitment of marria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cultural Marriag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ware of potential proble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le of religion, childr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Matramonnia Mixt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 Marriage after Death or Null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e and consideration after death or Nul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andicapped – Understanding and careful planning. – provis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611360"/>
            <a:ext cx="3398760" cy="3633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51040" y="575640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57150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57913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Documen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onwealth of Austra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97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tice of Intended Marri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 month &amp; 1 Da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eted by both part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 18 NOT allow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89360" y="2044800"/>
            <a:ext cx="3997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-Nuptial Inqui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3997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tice of Intended Marriag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 month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mpleted by both parti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nder 18 NOT allow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9360" y="2044800"/>
            <a:ext cx="399744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umanae Vit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xed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 Church DOES NOT allow two wedding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wedding is vali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be convalidat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eek Church requires a PROMI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. Ch. Abandoned this in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Mat.mix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oice of parish remains with coup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non 1115 removed – brides paris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fusal if couple do not live in the paris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paration – Pre Nuptial Inqui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ifications – to parish of bapt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ification to Chance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ice of Marriage – 30 days noti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ree months notice - prepar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pediments – Cannon 1083 – 109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potence (can 1084) must exist at the time of the wedding and be permanen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ior Bond – (can 1085) Prior married, no death certificate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tholics are bound by canonical form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quirements For Catholic Marria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glican marries a Uniting in a civil ceremony – NO defect of form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ime (can.1090) murdered to pave the way to marry an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sanguinity (can 1091) marriage within the fami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angui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362320"/>
            <a:ext cx="6019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Br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666520" y="2666880"/>
            <a:ext cx="12956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666880"/>
            <a:ext cx="838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133360" y="3429000"/>
            <a:ext cx="228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4290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4572000"/>
            <a:ext cx="76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343400"/>
            <a:ext cx="35053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angui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rst cousins – (Alice &amp; David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tact with Genetic Doct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caution on marrying those too clo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pply for a dispensa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for a family tre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angui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pecific Teac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law becomes Secular law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4T02:05:23Z</dcterms:created>
  <dc:creator>Michael Pate</dc:creator>
  <dc:description/>
  <dc:language>en-US</dc:language>
  <cp:lastModifiedBy>John Therry CHS</cp:lastModifiedBy>
  <dcterms:modified xsi:type="dcterms:W3CDTF">2003-07-23T05:13:21Z</dcterms:modified>
  <cp:revision>5</cp:revision>
  <dc:subject/>
  <dc:title>Marriage from a Catholic Perspective</dc:title>
</cp:coreProperties>
</file>