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4AFC-2B55-4FB4-9EAC-C9CA5269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E6F-D25D-4405-85E1-FA1CA932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6E3C-B9BD-4AFC-B712-927F43EF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6CE-BD46-43C7-871F-55341964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DFA-6283-46D4-AA27-B20C11BA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8A0-2122-4688-80E7-FD430A53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C64-8A7F-4AE8-B05C-CE9568B4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FEE-5138-4C5D-B10E-07852778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713-9572-4ED3-BFE0-359BFF63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3AF-C82C-4E4F-B038-98BB536E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57E0-4384-47FC-B96A-C8A0E71F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4A80-4BFA-4DE1-A8E6-F741108D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0BA5-DCDA-4753-9E01-E386641C5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javascript:showILG(&apos;halakha.htm&apos;);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wish bioethics in the contemporary era emerges from the traditional practice of applying principles of Jewish law (Halacha) to ethical dilem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lakhah is made up of the WRITTEN LAW, as recorded in the PENTATEUCH, and the ORAL LAW, which includes later RESPONSA as well as established cus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the period of the TEMPLE the SADDUCEES denied the authority of the oral law; this view was also adopted later by the KARA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 oral law was collected by JUDAH HA-NASI in the MISHNAH, and the discussions of the AMORAIM are recorded in the TALM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ly Jewish law was codified in such works as the MISHNEH TORAH by MAIMON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DOXY accepts the halakhah as binding, PROGRESSIVE JUDAISM has adapted it to contemporary life. This process has bee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dem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Orthodox J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almud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of the two collections of records of the discussion and administration of Jewish law by scholars in various ACADEMIES from c.200 to c.500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almud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ontain the MISHNAH together with GEMARA (commentary and supplement to the Mishnah text). In addition, both contain AGGADIC dig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zelem eloh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otion that all human beings were created in God's image is based on Genesis 1:25 ('So God created man in his own image; in the image of God created he him; male and female created he them'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zelem eloh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wish commentators differ as to the meaning of this verse; some, including the 12th-century Jewish philosopher Moses MAIMONIDES, argue that since God has no body, this text should not be understood literally.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ble (written law) and the Talmud (oral law) are the foundational texts on which such deliberations are 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ation of passages in these texts attempts to identify the duties of physicians, patients and families faced with difficult health care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Jewish law is an integral consideration of religiously observant Jews, secularized Jewish patients often welcome the wisdom of their tradition when considering treatment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wish bioethics exemplifies how an ethical system based on duties may differ from the secular rights-based model prevalent in Australia, Nor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Jewish bioethic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simple answer to this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lationship between Jewish law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lakh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Jewish ethics, and the ethical principles of general society are navigated differently by different Jewish authorit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re is one principle that can be singled out for its prominence in Jewish bioethical discourse: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anctity of human life and the duty to save and preserve it wherever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lak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Hebrew, 'way of going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wish LAW. ORTHODOX JUDAISM teaches that the entire legal system goes back to MOSES, who received the TORAH from God on MOUNT SI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09:42:31Z</dcterms:created>
  <dc:creator>Information Services</dc:creator>
  <dc:description/>
  <dc:language>en-US</dc:language>
  <cp:lastModifiedBy>Information Services</cp:lastModifiedBy>
  <dcterms:modified xsi:type="dcterms:W3CDTF">2007-02-22T09:57:23Z</dcterms:modified>
  <cp:revision>2</cp:revision>
  <dc:subject/>
  <dc:title>Introduction to Jewish Ethics</dc:title>
</cp:coreProperties>
</file>