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BEC-EB56-4A7C-91DC-D3B092ED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33D-58CF-4655-844C-DCC2CCC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74E-DCC5-454B-B179-329FB3C9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985-63A2-4F82-A7ED-8F758FB1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DA8-9BBF-4BC2-B2A4-243D71A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2D2-7C42-43B5-847D-9F74FFAC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409-7B46-4001-BEDB-46D24C8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F0E-4BA5-4F4C-BCA7-43F3E256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0DB-5DB3-4EB9-B9B7-EE37A96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DD0-2063-4E25-B940-3CF7455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3A9-537D-493A-AFC5-4B137CED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D95-17BE-42E4-8628-1D776FC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9741-9F2B-4D35-9AEF-0CBD6F4B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avascript:showILG(&apos;halakha.htm&apos;)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in the contemporary era emerges from the traditional practice of applying principles of Jewish law (Halacha) to ethical dilem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lakhah is made up of the WRITTEN LAW, as recorded in the PENTATEUCH, and the ORAL LAW, which includes later RESPONSA as well as established cus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period of the TEMPLE the SADDUCEES denied the authority of the oral law; this view was also adopted later by the KARA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oral law was collected by JUDAH HA-NASI in the MISHNAH, and the discussions of the AMORAIM are recorded in the TALM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equently Jewish law was codified in such works as the MISHNEH TORAH by MAIMON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DOXY accepts the halakhah as binding, PROGRESSIVE JUDAISM has adapted it to contemporary life. This process has bee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dem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Orthodox J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the two collections of records of the discussion and administration of Jewish law by scholars in various ACADEMIES from c.200 to c.500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almud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ontain the MISHNAH together with GEMARA (commentary and supplement to the Mishnah text). In addition, both contain AGGADIC dig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otion that all human beings were created in God's image is based on Genesis 1:25 ('So God created man in his own image; in the image of God created he him; male and female created he them'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zelem eloh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commentators differ as to the meaning of this verse; some, including the 12th-century Jewish philosopher Moses MAIMONIDES, argue that since God has no body, this text should not be understood literally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ble (written law) and the Talmud (oral law) are the foundational texts on which such deliberations are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ation of passages in these texts attempts to identify the duties of physicians, patients and families faced with difficult health care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Jewish law is an integral consideration of religiously observant Jews, secularized Jewish patients often welcome the wisdom of their tradition when considering treatment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bioethics exemplifies how an ethical system based on duties may differ from the secular rights-based model prevalent in Australia, Nor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Jewish bioethic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imple answer to this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 between Jewish law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lakh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Jewish ethics, and the ethical principles of general society are navigated differently by different Jewish author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Jewish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re is one principle that can be singled out for its prominence in Jewish bioethical discourse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anctity of human life and the duty to save and preserve it wherever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53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95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lak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Hebrew, 'way of going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ish LAW. ORTHODOX JUDAISM teaches that the entire legal system goes back to MOSES, who received the TORAH from God on MOUNT SI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38400" y="1981080"/>
            <a:ext cx="2452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9:42:31Z</dcterms:created>
  <dc:creator>Information Services</dc:creator>
  <dc:description/>
  <dc:language>en-US</dc:language>
  <cp:lastModifiedBy>Information Services</cp:lastModifiedBy>
  <dcterms:modified xsi:type="dcterms:W3CDTF">2007-02-22T09:57:23Z</dcterms:modified>
  <cp:revision>2</cp:revision>
  <dc:subject/>
  <dc:title>Introduction to Jewish Ethics</dc:title>
</cp:coreProperties>
</file>