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FEA-9A58-417F-ADB7-CCD632D5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20F-F413-4B80-83C6-A54F5A5C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B8E-7A2E-4E23-B461-226340B2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F8D-1BE2-476F-A552-C7686086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289-C3C9-4955-AF1C-911749C5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D9F-AF6E-408A-BDCA-F27911B4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F76-DA99-40A1-9D77-1CBABD30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178-CDE6-4C17-BF3A-F1386EB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158-B131-4BD4-B27D-FC5D46D3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877-97D8-476C-844A-4434917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432-D1C5-41B1-BBF5-E1A82A8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B29-7ACC-4281-AB33-D2A47827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BFB-740E-4E62-89FD-878F8CEFB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showILG(&apos;Talmud.htm&apos;)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showILG(&apos;tzelem_elohim.htm&apos;)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alm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dying person, is considered no different than any other human be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because our lives are not ours to dispose of as we feel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ife is of infinite value, regardless of its duration or quality, because all human beings are made in the image of G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someone from pain is not a reason to kill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is it lawful to kill oneself to save oneself from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re is a limit to the duty to keep people a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meone's life is ending, and they are in serious pain then doctors have no duty to make that person suffer more by artificially extending thei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only does the Talmud consider one who kill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a murderer, it prohibits any actions that may speed up her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raditionally, euthanasia and physician-assisted suicide are prohibited by Jewish la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, most Jewish authorities object to any actions that impede the death of a suff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liberal authorities like Reform rabbi Peter Knobel support the termination of life in situations of extreme suffering, when a person’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zelem elo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ivine image, is compro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life is precious and its preservation takes precedence over every othe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ludes the obligation to visit the sick and the permission to violate the Sabbath to help a person afflicted with a dangerous ill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so includes the obligation of forbearance from doing anything that might hasten the death of a sick person, no matter how serious the illness (Maimonid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l. Ave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: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law and tradition regard human life as sacred, and say that it is wrong for anyone to shorten a huma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0:16:42Z</dcterms:created>
  <dc:creator>Information Services</dc:creator>
  <dc:description/>
  <dc:language>en-US</dc:language>
  <cp:lastModifiedBy>Information Services</cp:lastModifiedBy>
  <dcterms:modified xsi:type="dcterms:W3CDTF">2007-02-22T10:25:43Z</dcterms:modified>
  <cp:revision>1</cp:revision>
  <dc:subject/>
  <dc:title>Euthanasia from a Jewish Perspective</dc:title>
</cp:coreProperties>
</file>