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1A37-C1AB-49CB-B77A-1C5CB941F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2BDB-E02A-4F01-922E-0329CB12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301F-172D-4D80-90CB-3E53F1318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4457-30FA-428A-A684-7AC579EA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4E54-3F67-470D-825A-C4A898E3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82E3-58F2-465F-8B13-34D9FB0D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D585-9ECE-40D9-A007-AA148851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DDEF-758E-4750-934D-5A5E25F1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42EB-5194-45E4-9295-1C232F8B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DCD9-A555-470A-AB69-CA649606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C08E-A747-45A7-8B0D-281B9767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09BF-C205-44E3-8AAF-45F40E8E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C588-6E9D-4809-8065-3F1390FB5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javascript:showILG(&apos;Talmud.htm&apos;);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javascript:showILG(&apos;tzelem_elohim.htm&apos;);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thanasia from a Jewish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uthanasi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rding to th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Talmu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 dying person, is considered no different than any other human be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715000" y="2514600"/>
            <a:ext cx="1647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thanasia from a Jewish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uthanasi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because our lives are not ours to dispose of as we feel l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715000" y="2514600"/>
            <a:ext cx="1647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thanasia from a Jewish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uthanasi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life is of infinite value, regardless of its duration or quality, because all human beings are made in the image of G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715000" y="2514600"/>
            <a:ext cx="1647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thanasia from a Jewish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uthanasi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ving someone from pain is not a reason to kill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715000" y="2514600"/>
            <a:ext cx="1647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thanasia from a Jewish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uthanasi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 is it lawful to kill oneself to save oneself from p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715000" y="2514600"/>
            <a:ext cx="1647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thanasia from a Jewish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uthanasi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there is a limit to the duty to keep people al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715000" y="2514600"/>
            <a:ext cx="1647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thanasia from a Jewish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uthanasi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someone's life is ending, and they are in serious pain then doctors have no duty to make that person suffer more by artificially extending their d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715000" y="2514600"/>
            <a:ext cx="1647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thanasia from a Jewish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uthanasi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only does the Talmud consider one who kill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be a murderer, it prohibits any actions that may speed up her deat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715000" y="2514600"/>
            <a:ext cx="1647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thanasia from a Jewish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uthanasi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, traditionally, euthanasia and physician-assisted suicide are prohibited by Jewish law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15000" y="2514600"/>
            <a:ext cx="1647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thanasia from a Jewish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uthanasi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vertheless, most Jewish authorities object to any actions that impede the death of a suffe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15000" y="2514600"/>
            <a:ext cx="1647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thanasia from a Jewish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uthanasi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liberal authorities like Reform rabbi Peter Knobel support the termination of life in situations of extreme suffering, when a person’s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tzelem elo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divine image, is compromi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715000" y="2514600"/>
            <a:ext cx="1647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thanasia from a Jewish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uthanasi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 life is precious and its preservation takes precedence over every other consid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15000" y="2514600"/>
            <a:ext cx="1647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thanasia from a Jewish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uthanasi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ncludes the obligation to visit the sick and the permission to violate the Sabbath to help a person afflicted with a dangerous illn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715000" y="2514600"/>
            <a:ext cx="1647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thanasia from a Jewish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uthanasia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also includes the obligation of forbearance from doing anything that might hasten the death of a sick person, no matter how serious the illness (Maimonide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l. Ave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: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715000" y="2514600"/>
            <a:ext cx="1647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thanasia from a Jewish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uthanasi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wish law and tradition regard human life as sacred, and say that it is wrong for anyone to shorten a human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715000" y="2514600"/>
            <a:ext cx="1647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10:16:42Z</dcterms:created>
  <dc:creator>Information Services</dc:creator>
  <dc:description/>
  <dc:language>en-US</dc:language>
  <cp:lastModifiedBy>Information Services</cp:lastModifiedBy>
  <dcterms:modified xsi:type="dcterms:W3CDTF">2007-02-22T10:25:43Z</dcterms:modified>
  <cp:revision>1</cp:revision>
  <dc:subject/>
  <dc:title>Euthanasia from a Jewish Perspective</dc:title>
</cp:coreProperties>
</file>