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7FF4-8DE9-457F-9E1A-5E41306D3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1A18-E73D-4DBB-8619-FC79F84D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FC45-E961-4155-9A79-43B53C96D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5F88-58D9-488C-A951-D7AB6DD90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50A6-3045-4DAC-8E22-74C5F0C8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4ABC-AF14-45E6-938E-A1091770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C127-D14C-48A4-B127-E4E93CD4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9387-CC07-4114-8D77-7BB5527E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7F65-998E-45B9-815F-DE315F54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486C-CDB1-44B4-9152-60093A15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D187-9E51-4236-A76C-70613EE2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C6BD-1B2A-4615-8348-44D950C4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886B-43D8-45CF-945C-3293471AC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javascript:showILG(&apos;Talmud.htm&apos;);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javascript:showILG(&apos;tzelem_elohim.htm&apos;);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thanasia from a Jewish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uthanasi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ording to th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Talmu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 dying person, is considered no different than any other human be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715000" y="2514600"/>
            <a:ext cx="1647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thanasia from a Jewish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uthanasi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because our lives are not ours to dispose of as we feel l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715000" y="2514600"/>
            <a:ext cx="1647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thanasia from a Jewish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uthanasi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life is of infinite value, regardless of its duration or quality, because all human beings are made in the image of G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715000" y="2514600"/>
            <a:ext cx="1647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thanasia from a Jewish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uthanasi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ving someone from pain is not a reason to kill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715000" y="2514600"/>
            <a:ext cx="1647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thanasia from a Jewish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uthanasi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 is it lawful to kill oneself to save oneself from p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715000" y="2514600"/>
            <a:ext cx="1647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thanasia from a Jewish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uthanasi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there is a limit to the duty to keep people al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715000" y="2514600"/>
            <a:ext cx="1647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thanasia from a Jewish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uthanasi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someone's life is ending, and they are in serious pain then doctors have no duty to make that person suffer more by artificially extending their d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715000" y="2514600"/>
            <a:ext cx="1647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thanasia from a Jewish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uthanasi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only does the Talmud consider one who kill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be a murderer, it prohibits any actions that may speed up her deat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715000" y="2514600"/>
            <a:ext cx="1647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thanasia from a Jewish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uthanasi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, traditionally, euthanasia and physician-assisted suicide are prohibited by Jewish law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15000" y="2514600"/>
            <a:ext cx="1647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thanasia from a Jewish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uthanasi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vertheless, most Jewish authorities object to any actions that impede the death of a suffe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15000" y="2514600"/>
            <a:ext cx="1647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thanasia from a Jewish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uthanasi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liberal authorities like Reform rabbi Peter Knobel support the termination of life in situations of extreme suffering, when a person’s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tzelem elo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 divine image, is compromi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715000" y="2514600"/>
            <a:ext cx="1647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thanasia from a Jewish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uthanasi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2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 life is precious and its preservation takes precedence over every other consid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715000" y="2514600"/>
            <a:ext cx="1647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thanasia from a Jewish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uthanasi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ncludes the obligation to visit the sick and the permission to violate the Sabbath to help a person afflicted with a dangerous illn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715000" y="2514600"/>
            <a:ext cx="1647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thanasia from a Jewish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uthanasia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also includes the obligation of forbearance from doing anything that might hasten the death of a sick person, no matter how serious the illness (Maimonide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l. Avei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: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715000" y="2514600"/>
            <a:ext cx="1647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thanasia from a Jewish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uthanasi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wish law and tradition regard human life as sacred, and say that it is wrong for anyone to shorten a human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715000" y="2514600"/>
            <a:ext cx="1647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10:16:42Z</dcterms:created>
  <dc:creator>Information Services</dc:creator>
  <dc:description/>
  <dc:language>en-US</dc:language>
  <cp:lastModifiedBy>Information Services</cp:lastModifiedBy>
  <dcterms:modified xsi:type="dcterms:W3CDTF">2007-02-22T10:25:43Z</dcterms:modified>
  <cp:revision>1</cp:revision>
  <dc:subject/>
  <dc:title>Euthanasia from a Jewish Perspective</dc:title>
</cp:coreProperties>
</file>