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CDF-CD97-483F-8E6B-489F1EA5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8A3-7B13-4556-AB3C-6A87B16F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6B58-CB2F-437E-A2B8-2BEA2D90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1BC7-35F1-4960-91ED-97E4DE6A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A02D2-2475-44F7-AD57-6A849DAE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46499-2762-41BD-9B81-2F637AD3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234C1-08B8-4FCC-B02B-846BD44B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EB06C-005F-4557-B602-4752BAE6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9967C-A326-436F-9842-56E86A0B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70A72-98B5-4467-8E8E-AF8F387A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298FF-3D06-4FF3-8417-F815C8FE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E3E-5E1B-4CD7-BBC9-0DDBC721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18EF4-7339-4F1D-9BD3-1FED939F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281D4-59E7-40E3-9BA8-EC6E0BF4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22BDE-D1A8-4EBA-9CB3-2101242A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01700-5568-434B-882E-B9E3A9BD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5420E-74B9-4C66-BE19-8AE0AFBE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ABBE-89D7-4895-9D93-DFE98B23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8A74-4958-47DF-8290-06678F8C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2C5D-6B76-434B-8AC6-A5253225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F50-CFB8-44F7-9B4C-C4AB1A7C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06E-E044-4927-B7D2-92EB8C92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19BC-BCE7-4F29-A4E4-B8DCC81B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1F97-6967-4821-8FA2-8DCF22DD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3786-2AB7-4DBB-8C84-40EC941ACB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49FC-7EB2-4D8F-908F-BCC13BC8DF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ristian / Jewish Marriag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te of Pas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glic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urch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ns declared on three Sundays before wedding (ask congregation if they know of any reasons why the couple should not be married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i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urch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ed as a way of life created by and blessed by Christ, congregation prays for the couple, asking that they may fulfill God’s purpose for the whole of their l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Hierarchical and Role Regul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 couple are married, they move from being the children of the family to that of the role of parents and thus having childr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ality within the relationship is stressed in Christian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les of a Christian couple are expected to be equal although they may be socially and culturally influen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mbo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itation of Marriage Vows: these promises are central to a Christian marriage ceremony. They affirm the Christian belief that marriage is a life long commi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hange of Rings: The rings symbolises the commitment that people will always be true to each other. Love has no 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ing of the Marriage contract: Symbolises the legal requirement of the marriage. Signed by the bride, the groom and the two witne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de wearing white: Is a symbol of p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de wearing a veil: Is a symbol of modes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Transform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 to being married the man and woman were single, and they were part of two separate families. Marriage unites two people together in love, forming a new family unit in which husband and wife are now responsible for one another and for their childr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ld Testament times men were married from the age of 18 and girls from 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s in Australia must be 18 yrs of age before legal consent can be gi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age at a younger age can only happen with parental con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parents refuse – judge/magistrate is sought to give per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ish weddings can take place on any day of the week, except for the Shabbat and on festival d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Jewish weddings take place on a Sunday – usually in the afterno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la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wish weddings may either take place in a synagogue or outside and they always take place under a “chuppah” (a canop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uppah is usually elaborately decorated and supported by four poles covered with flow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 it is simply a prayer shawl held over the heads of the cou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Particip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rite of marriage is a public ceremony, the couple are required to make their vows in 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Jewish marriage ceremony, the couple give witness to their love for each other and express their desire to ‘sanctify’ God through the ties and obligations of marri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 at the marriage are th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llah – the b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ssan – the g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nds and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abbi usually officiates – but it can be any observant Jew familiar with the requirements – as marriage under Jewish law is essentially a private contract between a man and wo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Time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ristian churches require the couple to be over the age of consent (18 years), but will allow marriage with written consent of both parents or with the approval of a judge or magistrat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minyan’ (10 men) is required to be present for the bles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 is also considered to be present at the wed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abbi is there to make sure the wedding is done properly – but he does not technically marry the couple – for the couple are considered married if two proper witnesses observe the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Char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age is seen to be God’s design – so for both men and women it is desir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brew word for marriage ‘kiddushin’ (sanctification) expresses its special sanctity – it is considered “the” sacred relation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seen as a personal relationship – dedicated to companionship and the founding of a fam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very highly regarded – in fact to marry and have children is the first commandment given to humanity in the Tora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age is a holy covenant – bound by a covenant – the contract, the ‘ketubah’ states the man’s responsibility to provide for his w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Set For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– the initial blessings are rec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there is the giving of the ring – the words said here constitute the vows of Jewish marriage – the couple are now set apart from others for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ext part focuses on the contract – the ‘ketubah’ is prepared &amp; signed by wit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rriage closes as it began with blessings recited over a cup of w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followed by the reciting of seven blessings, praising God for the creation of all th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mbo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symbols are part of the ceremon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ppah – canopy – marital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orts – Adam/Eve escorted by 2 ang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ing – joyful, but solemn occa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ssings – joy couple sh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ngs- vows of marri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tubah – contract – practical commi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kerchief- accepts the ketub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 blessings- praise God – link to history of Isr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ing of wine glass – destruction of the temple/fragilit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irement to separate room – new status of the couple as husband/w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blessings- resolve to sh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dles- symbolise jo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Hierarchical and Role Rel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married the wife has responsibility for the home – free her husband to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fe has to keep kosher home and bring up and teach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at goes on in the home must be expressive of Juda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le of the husband is to provide for and protect the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wish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roles are seen as equally important, and marriage is viewed as an equal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Transform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a couple responsible for continuing the Jewish nation by starting a family, keeping the mitzvah and bringing the children up in the Jewish tra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equal with other Jewish couples in the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Particip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ite of Christian marriage is a public ceremo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uple publicly give witness to their love for each o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nts include: The bridesmaid and best man, who act as witnesses, families and friends, and a priest or mini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Pla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an wedding ceremonies take place in a church. Only in very exceptional circumstances, for example, if one of the partners belongs to a non Christian faith, will permission be given for the marriage to take place elsewhere than in a Churc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Char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sacred and lifelong union of man and woman who give themselves to each other in love and trust , reflecting ever lasting love that God has for His Church through Chr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seen as a way to physical and spiritual fulfilment and it mirrors the unity between Father, Son and Holy Spir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itment of husband and wife reflects God’s covenant with His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s the way of God’s love and this is the way of the cro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revelation of God and a channel of grace to each other and to those around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T FORM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denomination has various ritu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ypica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risti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rriage ceremony contains a number of ritu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bridal procession, readings from the Bible, exchange of wedding vows and blessing and exchange of ring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k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age takes place at a meeting called for the purpose of witnessing the promise made by the couple to each other and there is no exchange of r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rthodo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riage begins at the entrance to the Church and couples hold lighted candles during the service of the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ian Marri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apti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urc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main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 (hymn, talk about meaning/purpose of marriage, pray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part (covenant, joining of hands, rings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ce of the Word (scriptures, sermon, prayers, hymn and blessing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01:37:16Z</dcterms:created>
  <dc:creator>kwright</dc:creator>
  <dc:description/>
  <dc:language>en-US</dc:language>
  <cp:lastModifiedBy>kwright</cp:lastModifiedBy>
  <dcterms:modified xsi:type="dcterms:W3CDTF">2003-04-13T09:00:31Z</dcterms:modified>
  <cp:revision>7</cp:revision>
  <dc:subject/>
  <dc:title>Christian Marri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