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AAC-58A6-4056-A84D-4C98F94C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8BB-521D-47E0-BA71-5243F47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2D4-77EC-41A3-BEF8-9A1065D9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E13-9D23-4F56-A3F8-20DE7946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622A8-6356-42C0-94A4-4BBF7782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101F2-E92D-4D28-8A1F-FC6264AC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D1E08-8291-4E31-9D3B-19D6B691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C8EFF-DB13-4B52-8E45-2976F19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8F898-8AE8-419E-A2F2-7C0B2424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42626-4403-4D0E-BDE1-C5734C64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3A926-B945-4A3C-A44D-E587AAE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15B-F055-432B-B905-20C0BE8F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56063-16E1-4022-A5A8-E58B9DFD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87288-05DA-4662-9D1D-4001F72C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77651-E571-44EC-9258-8455E3D2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4E93B-F8B4-4C52-AB56-3F8A9E98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FA4B0-351F-4DC2-8E70-9ADE24D4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A75-7643-49A0-B2BF-F94A3F9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23DB-383A-4B30-BF1C-A2C13A45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6A8-CC76-456B-95EF-D1E5B810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85F-F6F9-405D-92C6-1D3CAC86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AC1-7760-4110-9FE2-B6B54F95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291-A9CC-4CDB-8B8F-62EE030F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194-C143-4A2D-8DFC-BA18F311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F3A9-2132-4DD6-A53A-E3CAEB175A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45F9-B448-4468-ABD7-F4DBA28B1C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ristian / Jewish Marriag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 of Pas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glic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urch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ns declared on three Sundays before wedding (ask congregation if they know of any reasons why the couple should not be married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i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urch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ed as a way of life created by and blessed by Christ, congregation prays for the couple, asking that they may fulfill God’s purpose for the whole of their l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Hierarchical and Role Regul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 couple are married, they move from being the children of the family to that of the role of parents and thus having 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ty within the relationship is stressed in Christia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les of a Christian couple are expected to be equal although they may be socially and culturally influen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bo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itation of Marriage Vows: these promises are central to a Christian marriage ceremony. They affirm the Christian belief that marriage is a life long commi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Rings: The rings symbolises the commitment that people will always be true to each other. Love has no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ng of the Marriage contract: Symbolises the legal requirement of the marriage. Signed by the bride, the groom and the two witn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e wearing white: Is a symbol of p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e wearing a veil: Is a symbol of mod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Trans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 to being married the man and woman were single, and they were part of two separate families. Marriage unites two people together in love, forming a new family unit in which husband and wife are now responsible for one another and for their childr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ld Testament times men were married from the age of 18 and girls from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in Australia must be 18 yrs of age before legal consent can be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at a younger age can only happen with parental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parents refuse – judge/magistrate is sought to give per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weddings can take place on any day of the week, except for the Shabbat and on festival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Jewish weddings take place on a Sunday – usually in the aftern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weddings may either take place in a synagogue or outside and they always take place under a “chuppah” (a canop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uppah is usually elaborately decorated and supported by four poles covered with flo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it is simply a prayer shawl held over the heads of the cou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articip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ite of marriage is a public ceremony, the couple are required to make their vows in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Jewish marriage ceremony, the couple give witness to their love for each other and express their desire to ‘sanctify’ God through the ties and obligations of marri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at the marriage ar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lah – the b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ssan – the g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 and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bbi usually officiates – but it can be any observant Jew familiar with the requirements – as marriage under Jewish law is essentially a private contract between a man and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Tim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ristian churches require the couple to be over the age of consent (18 years), but will allow marriage with written consent of both parents or with the approval of a judge or magistrat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minyan’ (10 men) is required to be present for the bles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also considered to be present at the we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bbi is there to make sure the wedding is done properly – but he does not technically marry the couple – for the couple are considered married if two proper witnesses observe the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Char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is seen to be God’s design – so for both men and women it is desi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brew word for marriage ‘kiddushin’ (sanctification) expresses its special sanctity – it is considered “the” sacred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seen as a personal relationship – dedicated to companionship and the founding of a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very highly regarded – in fact to marry and have children is the first commandment given to humanity in the Tor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is a holy covenant – bound by a covenant – the contract, the ‘ketubah’ states the man’s responsibility to provide for his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Set Fo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– the initial blessings are rec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re is the giving of the ring – the words said here constitute the vows of Jewish marriage – the couple are now set apart from others for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part focuses on the contract – the ‘ketubah’ is prepared &amp; signed by wit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rriage closes as it began with blessings recited over a cup of w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llowed by the reciting of seven blessings, praising God for the creation of all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bo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ymbols are part of the ceremon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ppah – canopy – marital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orts – Adam/Eve escorted by 2 ang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ing – joyful, but solemn occa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ings – joy couple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ngs- vows of 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tubah – contract – practical comm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kerchief- accepts the ketub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blessings- praise God – link to history of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ing of wine glass – destruction of the temple/fragilit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ement to separate room – new status of the couple as husband/w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blessings- resolve to sh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les- symbolise j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Hierarchical and Role Rel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married the wife has responsibility for the home – free her husband to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fe has to keep kosher home and bring up and teach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at goes on in the home must be expressive of Juda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 of the husband is to provide for and protect the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roles are seen as equally important, and marriage is viewed as an equal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Trans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a couple responsible for continuing the Jewish nation by starting a family, keeping the mitzvah and bringing the children up in the Jewish tra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equal with other Jewish couples in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articip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te of Christian marriage is a public cerem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ple publicly give witness to their love for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s include: The bridesmaid and best man, who act as witnesses, families and friends, and a priest or min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 wedding ceremonies take place in a church. Only in very exceptional circumstances, for example, if one of the partners belongs to a non Christian faith, will permission be given for the marriage to take place elsewhere than in a Chur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Char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sacred and lifelong union of man and woman who give themselves to each other in love and trust , reflecting ever lasting love that God has for His Church through Chr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een as a way to physical and spiritual fulfilment and it mirrors the unity between Father, Son and Holy Spi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ment of husband and wife reflects God’s covenant with His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s the way of God’s love and this is the way of the cr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revelation of God and a channel of grace to each other and to those around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T FORM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denomination has various ritu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ypic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risti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riage ceremony contains a number of ritu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bridal procession, readings from the Bible, exchange of wedding vows and blessing and exchange of ri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k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takes place at a meeting called for the purpose of witnessing the promise made by the couple to each other and there is no exchange of r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thodo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begins at the entrance to the Church and couples hold lighted candles during the service of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pti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urc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(hymn, talk about meaning/purpose of marriage, pray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part (covenant, joining of hands, ring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of the Word (scriptures, sermon, prayers, hymn and blessin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1:37:16Z</dcterms:created>
  <dc:creator>kwright</dc:creator>
  <dc:description/>
  <dc:language>en-US</dc:language>
  <cp:lastModifiedBy>kwright</cp:lastModifiedBy>
  <dcterms:modified xsi:type="dcterms:W3CDTF">2003-04-13T09:00:31Z</dcterms:modified>
  <cp:revision>7</cp:revision>
  <dc:subject/>
  <dc:title>Christian Marri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