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55C08-B8D3-4775-A462-5776E18B8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D8DB5-BD0F-4CDB-A4A6-11E53A8F0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D708A-D8AC-44F2-87C2-C7470BA95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F3BB5-DEE0-4479-918E-8AAE70868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C1E6D-280D-4B23-9E3D-E37F7B8B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12CD8-EDED-44C4-BA03-82DE3DF21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B6A4-28FE-4B0B-AC88-DA13282D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7D3CC-ED98-4DBE-A4C0-758CD27E2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83A54-34B6-4352-8F46-A4DBA20CC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50AE6-53BE-45D8-AA1F-D95213A0D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6234-7032-4547-8244-776B7CE5B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88A64-4C7F-4C5F-88AD-3897018CA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4A44-C5F5-46B7-A412-139F6BA609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jewfaq.org/defs/law.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talmud.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daism does not categorically approve or disapprove of abor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law does not consider a fetus to be a human being; thus it actually requires abortions when a pregnant woman’s life is in danger.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1"/>
          <a:stretch/>
        </p:blipFill>
        <p:spPr>
          <a:xfrm>
            <a:off x="2514600" y="3733920"/>
            <a:ext cx="167652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once the greater part of the body has emerged, you cannot take its life to save the mother's, because you cannot choose between one human life and anoth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ish authorities disagree on whether to extend the permissibility of abortion to situations where the pregnancy or birth is psychologically but not physically dangero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 allow for abortion in such cases disagree on how far to extend this permissibil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1"/>
          <a:stretch/>
        </p:blipFill>
        <p:spPr>
          <a:xfrm>
            <a:off x="6095880" y="4495680"/>
            <a:ext cx="1730520" cy="11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authorities allow abortion in cases of incest or rape and cases where the fetus is affected with a terminal genetic disease such as Tay-Sachs</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uthorities extend permissibility further and may include cases where the fetus has a non-terminal genetic defect or even situations where the mere fact of pregnancy and anticipated childbirth is a threat to the mother’s mental health</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Jewish law</a:t>
            </a:r>
            <a:r>
              <a:rPr b="0" lang="en-US" sz="2800" spc="-1" strike="noStrike">
                <a:solidFill>
                  <a:srgbClr val="000000"/>
                </a:solidFill>
                <a:latin typeface="Times New Roman"/>
              </a:rPr>
              <a:t> not only permits, but in some circumstances </a:t>
            </a:r>
            <a:r>
              <a:rPr b="0" i="1" lang="en-US" sz="2800" spc="-1" strike="noStrike">
                <a:solidFill>
                  <a:srgbClr val="000000"/>
                </a:solidFill>
                <a:latin typeface="Times New Roman"/>
              </a:rPr>
              <a:t>requires</a:t>
            </a:r>
            <a:r>
              <a:rPr b="0" lang="en-US" sz="2800" spc="-1" strike="noStrike">
                <a:solidFill>
                  <a:srgbClr val="000000"/>
                </a:solidFill>
                <a:latin typeface="Times New Roman"/>
              </a:rPr>
              <a:t> abor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mother's life is in jeopardy because of the unborn child, abortion is mandatory</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nborn child has the status of "potential human life" until the majority of the body has emerged from the mother</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human life is valuable, and may not be terminated casually, but it does not have as much value as a life in existence</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u="sng">
                <a:solidFill>
                  <a:srgbClr val="009999"/>
                </a:solidFill>
                <a:uFillTx/>
                <a:latin typeface="Times New Roman"/>
                <a:hlinkClick r:id="rId1"/>
              </a:rPr>
              <a:t>Talmud</a:t>
            </a:r>
            <a:r>
              <a:rPr b="0" i="1" lang="en-US" sz="2400" spc="-1" strike="noStrike">
                <a:solidFill>
                  <a:srgbClr val="000000"/>
                </a:solidFill>
                <a:latin typeface="Times New Roman"/>
              </a:rPr>
              <a:t> </a:t>
            </a:r>
            <a:r>
              <a:rPr b="0" lang="en-US" sz="2400" spc="-1" strike="noStrike">
                <a:solidFill>
                  <a:srgbClr val="000000"/>
                </a:solidFill>
                <a:latin typeface="Times New Roman"/>
              </a:rPr>
              <a:t>makes no bones about this: it says quite bluntly that if the fetus threatens the life of the mother, you cut it up within her body and remove it limb by limb if necessary, because its life is not as valuable as hers</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9:59:45Z</dcterms:created>
  <dc:creator>Information Services</dc:creator>
  <dc:description/>
  <dc:language>en-US</dc:language>
  <cp:lastModifiedBy>Information Services</cp:lastModifiedBy>
  <dcterms:modified xsi:type="dcterms:W3CDTF">2007-02-22T10:13:46Z</dcterms:modified>
  <cp:revision>1</cp:revision>
  <dc:subject/>
  <dc:title>Bioethics - Abortion from the Jewish Perspective</dc:title>
</cp:coreProperties>
</file>